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108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995040" y="729720"/>
            <a:ext cx="48690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38858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108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1EEA-4C6A-40E0-9A1E-CD4C1C3811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14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4688-0F33-4692-A467-F847F4E81E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14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21F4-E369-4E52-B124-8557574595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14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3B0C-B082-485B-8A71-40E5028584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C0E-A6E4-4165-9F6E-DE1BBF2A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6EB-642F-43DB-A86F-69E40772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1A831-EC8A-4374-A61D-B61E003B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48171-51CB-4FDA-A90C-CBCACBD1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F546F-6A98-4524-B474-A1C47A74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0BC91-55D1-4418-B336-F9D46003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B5E31-F3BA-4706-B112-55D4306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6853E-2F51-4AAA-9B0F-31A65882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35A06-1BF7-4CCB-80AE-BBCA6C34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EBE43-986D-4B4D-B5BA-46F000FB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1E95D-6043-4721-A2E8-FBFF2DF2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45F4F-22B7-4547-831D-3F83735F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E02-3171-4FAA-A382-62569C69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09760-F68D-4E46-9682-7E145DD8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85A23-13CA-4E3B-A66C-2E9369A2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5DAAE-766E-4BB6-A60D-5FDA5F7F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1BA0C-20B1-42FA-876C-44025E30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FB44D-CFB3-403D-A40C-7D8F8A81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D985D-B83F-41CA-B76F-495170E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B401F-5939-4474-A377-B14C664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9F2A7-983C-461B-965E-C6482660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12B39-D2B4-45DB-8E79-5651E385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CEADA-B3F8-437D-BF55-A53E02D3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2CD-CCD4-4E85-AAEC-F720C1BF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1BCCF-2E1C-453B-911E-91295062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0390A-C4CA-423E-9A6A-EFFE88FD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6E3F7-39D6-4273-823C-EBB835AD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72CF9-7F69-4932-A334-ABC1D98C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C34B9-C342-4439-9DCE-BEEC9882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95086-4A7F-4969-8AA2-155251A9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159CB-CD3B-47FC-9BE8-03F237F0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E65BB-368C-472D-A3D5-A835C45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551FA-0BA2-4D8C-97B2-3FFFEDA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4FCCF-C032-414E-A625-77819EF4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01A1-0799-4350-B872-3172CE98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86942-E188-4D0E-B91E-FE60AF5A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45293-F3F5-4641-99AB-09E7BE4C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B5D46-C761-4183-BA3F-2D1E91BD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F77A2-31BD-48B6-8E95-F6E17506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035B8-9765-4161-9022-3A9C2D1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B7E81-EE86-4188-BEA1-08A58BF8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E0C28-62E6-4F71-B06F-8BAAC7C0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CD5D0-D501-4E25-A03C-19C3C50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21A3E-2A7E-408B-90DA-27675E27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FF77D-9920-42E8-9372-89814DC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E36A-8F01-46DF-800E-5385C867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92DE5-A6E8-461E-A51E-F86786D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D4FE9-51D3-429A-A580-2934ED8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04D13-6882-4F88-BDBC-254F79AC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7F551-A815-4A11-B8BE-651BE917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EDB55-CF5B-45E7-A069-6AB7E900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3003A-3DB8-4D91-9885-A237F58A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02F42-18D7-4365-A3B7-2E87D2B1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4DD42-9166-4001-B579-B4378EE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14BF5-BEE5-4A2D-BEFE-9D884C70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69AAB-4159-489C-AE4B-35836A7C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5D63-C805-4FAD-8DA4-B37D8E9B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88710-8052-46FD-9189-FDBFDE48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9CD11-F835-4C34-8185-378D0FA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BD515-FE8E-4EFD-AF35-B31483D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1E98A-13A7-433E-8DA1-11DB688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6823B-E413-40CB-A20B-2896F3F7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C8342-B74F-4ADD-8ADF-3C377D70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8D39E-ED7F-4A52-9818-A7C04246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3FA8B-2700-45D9-A3F1-D6E9E504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50E9A-82EC-4D86-82A6-5C652D16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9FE69-DD64-4E48-A109-75DF2333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BC5A-7CF7-4671-9C1F-2079A8D8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5F135-C13E-42D7-B613-5EDCD7FD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681BF-FE27-44F5-BF4B-A8F45817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C3386-7A23-4CCF-9E7E-498F8157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7620A-4DA6-46BC-8996-ABE15AB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B3364-BAE1-4ADF-8BAD-F0FC246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C7E6B-E26E-4667-90DD-89E1720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A67A1-4DDF-4530-A4A7-7D68B694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E9D4B-E343-4358-A1A9-66B665EF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0298F-BB7B-4B34-B8D2-D8743079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979B-DE09-44F8-9D3C-DAB0C818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C9C5-051F-482B-9C9F-2305B4D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4CFC-16B5-46E5-81F0-E4D6620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DD1-86F8-4558-A257-1CAC31F6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3ECE-DDAB-42D1-9650-9221E673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F367-AD73-4279-94EA-E030F26B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91AF-CC88-482C-9C7E-F4F40C70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2782-D58C-4CB5-B3F7-818E9EE4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1B72-01B3-482F-A8E9-123A5B9F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E902-3013-4F46-A814-BCC99F7C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305B-CF6C-4C7C-B899-75A8AAE7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F5E2-04D6-4423-ABCF-FCA90CE9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2CA0-234F-4289-B324-E4E7AD42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427E-7207-47AA-88D7-0643690F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D56-6457-4519-8D8D-A42C8885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3285-D8B1-45DE-8C3C-0D329C9A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F3ED-6D66-4578-86AF-53CA1A2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352D-CCD3-42D4-8920-03A30950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8701-5A3C-4F7A-B5BB-4FE38FC6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6FC8-6C71-4385-A690-FBF90F85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33F2-B120-4830-BAE8-4B613068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9ACD-D092-41D2-B128-784F991A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F215C-C2FB-4568-8E40-27A5233E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8003-8099-491C-98AC-DC7A73D8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7B000-A978-44DF-A49E-C08AAB2D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970-A615-4D6C-9EEC-D78A89A6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602C-F612-49E4-B39F-9AF8891B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639E9-3EC8-401D-ADFA-C5266BAF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14B1-9630-4F46-A13B-4F38F410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12C5-DB6A-45BA-B0D3-82CAA62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CDE7-4ABA-4F37-BA05-1C53F0D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5245-7834-4114-A2FC-01EF779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3FF3E-14AB-4026-B369-D67D2C0C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C3F4-CE49-4039-8B70-153DD3A7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2B4D-1044-413D-8B14-A8FDD1A6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FA59B-5ABA-432F-9469-4C432514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580-273A-41D6-9C9C-27CF2843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53E16-0B1C-4F35-91AE-D8F6AC03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8D7EF-5C98-4CCF-B9D8-E1F6A5A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3D5C2-70A6-40DE-B608-EF358FBD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A296-CFF4-4C84-95A3-04A788CF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617EA-F419-4B20-9EF1-0C8BB965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981A0-BF40-4A78-9B9B-4DC0E79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3F6E6-E873-4D32-96E4-20B65A25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DAE9E-D866-4770-A9F7-4F4F592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C939-E44D-4677-968E-30B459E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0E33-8415-4F5F-8955-5894C837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FF8-9EC2-4F3C-8695-7A9C48BC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ACBB-D981-4C57-8EC1-7C7DB43C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3BDCA-FC65-466A-AEEB-EC0FC51A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91041-E5B7-42D7-AF29-71D5C69A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E1C3A-6D77-41FF-B4DB-33F4C2C0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BC289-0431-4557-A345-CECAA36C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E9AF-EEC1-4AA9-936D-B4522677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440D7-7378-4419-8445-CAC97D94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AF458-4F3C-42B1-8FB9-D3070EDC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5A957-68E1-462F-B8C9-DD1A45EA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577E7-09C5-4129-9181-B9EDD08D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731-ADF9-4227-ACCB-06757248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01C29-0E69-48C3-956E-BD908D5D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60707-2A0C-42C9-958D-F3CCDD9D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DD829-A0A4-47C0-9908-C3AAE84D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573CB-83F3-48D1-B910-D50FB19A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7FC52-14A6-4C39-94AD-DB7E5D3A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B5C0D-2AD8-44B8-9BCC-CC8322E3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9051B-2C66-4363-8662-F7F5AFD0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5E8CE-2B94-4703-92EE-B23E6E9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1661A-79CA-4001-8181-491EE2E8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2EBBF-C8C7-408E-B39D-BB98CE6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84A-FDA8-45AA-9333-59F9494C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186B1-C140-47AA-BF74-D72BAF6D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B541-A51A-4553-9321-C3E11F5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2ADD1-93E6-4834-8424-B15CB2AA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B57DB-DCEE-4649-A163-AC3D3CC2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20834-16D6-4EBA-930D-7A3DE493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959C9-E5F5-4801-93BC-4B925796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9E38-366A-49D5-9591-A382F3CC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34C79-64B9-452F-8737-59D57EB4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1B62F-4E12-45BE-AD28-7A0E1F5C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9F53B-69CD-46EC-BBDF-ED406024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0DD-A01D-4EBB-A7C4-D868BF88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71D28-2F65-4555-A4E9-DFC39D95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D8982-4413-43A5-B629-33C765D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A907-3677-475A-8A39-0D35B24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234F1-DA80-4B14-A7A8-8AAB77A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31A2E-8FF5-44BA-88E4-760A917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601E5-6ED3-4EB5-9840-3741413E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D6ACA-8C07-4DF1-96BD-EF634480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A1C35-71AA-425D-A004-7B51D5AC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FC247-8AE2-4A59-986F-EC4EF281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6E814-78D3-4A8C-AB73-C8F63C22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F825-F31A-45E7-8B5B-00CE374D1BD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6151-0649-4571-8316-1378E856164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49D3-9805-4A9F-868C-8E4AA85E04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846A-E6F5-4FE9-ACE3-323A421E2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E8D6-03EF-491F-AB22-34C9C8C75A1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FE2F-80F1-42F8-8C84-9E1D36100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60D7-F59B-40CE-B534-F8BE0DE0183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A731-8D3B-4A01-93B2-44C3A2B5E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08E9-30F1-4DBD-A90E-6B7F8A7CE8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F554-6449-4382-A6DB-323175530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6AFF-77DF-4BBB-AB5D-9ADEF7A7052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542-78CA-412D-ABBE-649CDD6E1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8A37-ABBF-4A75-9472-8317D28BD3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9E62-9853-449B-9709-E5812989B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B99-0C4F-47F1-AC65-F4C3CFBFE3F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05BE-C674-4FC2-81F9-C9DFFD59460A}" type="slidenum">
              <a:rPr b="0" lang="ar-SA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7AA1-17F3-4965-9A5B-527F5646469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D883-A2E6-4073-86AD-E6ED9BDB2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F112-57F4-49D3-B0CF-F72F227DED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C46B-8B66-420F-9F9E-A5AF30335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61CC-97C0-43FB-AEBA-EEFEC8CBED1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70D5-511A-4433-97BD-EAA3B7086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0804-B13F-4ACD-8CE4-4EF17E25E26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C806-06BD-4FDD-9370-D875F6EA24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B734-077F-4FCA-9671-3073DCD776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C54F-367B-44A7-90D7-9F70E779B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9E76-E64C-4A2B-A453-8933A03C17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8B6C-7F03-42BC-8A4C-57527B1E0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414936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82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Eras Bold ITC"/>
                <a:ea typeface="Times New Roman"/>
              </a:rPr>
              <a:t>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Eras Bold ITC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Eras Bold ITC"/>
                <a:ea typeface="Times New Roman"/>
              </a:rPr>
              <a:t>Instructor;  Endalk B. (MSc..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Eras Bold ITC"/>
                <a:ea typeface="Times New Roman"/>
              </a:rPr>
              <a:t>Maintenance And installation of  machinery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Rectangle 1"/>
          <p:cNvSpPr/>
          <p:nvPr/>
        </p:nvSpPr>
        <p:spPr>
          <a:xfrm>
            <a:off x="1258920" y="380880"/>
            <a:ext cx="701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Times New Roman"/>
              </a:rPr>
              <a:t>DEBRE MARKOS UNIVERSITY</a:t>
            </a:r>
            <a:br>
              <a:rPr sz="2400"/>
            </a:b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Times New Roman"/>
              </a:rPr>
              <a:t>INSTITUTE OF TECHNOLOG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Times New Roman"/>
              </a:rPr>
              <a:t>MECH</a:t>
            </a: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Arial"/>
              </a:rPr>
              <a:t>ANICAL ENGINEERING DEPARTM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728720" y="5653080"/>
            <a:ext cx="61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Eras Bold ITC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5D95-4D91-45BF-9088-A2E199C32D44}" type="slidenum">
              <a:rPr b="1" lang="en-US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24000" y="549000"/>
            <a:ext cx="842472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Times New Roman"/>
              </a:rPr>
              <a:t>1-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Calligraphy"/>
                <a:ea typeface="Times New Roman"/>
              </a:rPr>
              <a:t>Dependence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alligraphy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Calligraphy"/>
                <a:ea typeface="Times New Roman"/>
              </a:rPr>
              <a:t>the modified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(A and B) = P(A) P(B\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47080" cy="4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Calligraphy"/>
              </a:rPr>
              <a:t>Cont.</a:t>
            </a: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8" name="Group 4"/>
          <p:cNvGrpSpPr/>
          <p:nvPr/>
        </p:nvGrpSpPr>
        <p:grpSpPr>
          <a:xfrm>
            <a:off x="2843280" y="2852640"/>
            <a:ext cx="3816360" cy="2568600"/>
            <a:chOff x="2843280" y="2852640"/>
            <a:chExt cx="3816360" cy="2568600"/>
          </a:xfrm>
        </p:grpSpPr>
        <p:sp>
          <p:nvSpPr>
            <p:cNvPr id="619" name="Oval 2"/>
            <p:cNvSpPr/>
            <p:nvPr/>
          </p:nvSpPr>
          <p:spPr>
            <a:xfrm>
              <a:off x="2843280" y="2885760"/>
              <a:ext cx="1474920" cy="11192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A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0" name="Oval 3"/>
            <p:cNvSpPr/>
            <p:nvPr/>
          </p:nvSpPr>
          <p:spPr>
            <a:xfrm>
              <a:off x="2843280" y="4208400"/>
              <a:ext cx="1584360" cy="12128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B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1" name="Oval 4"/>
            <p:cNvSpPr/>
            <p:nvPr/>
          </p:nvSpPr>
          <p:spPr>
            <a:xfrm>
              <a:off x="5234040" y="2852640"/>
              <a:ext cx="1282680" cy="115236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B\A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2" name="Oval 7"/>
            <p:cNvSpPr/>
            <p:nvPr/>
          </p:nvSpPr>
          <p:spPr>
            <a:xfrm>
              <a:off x="5435640" y="4208400"/>
              <a:ext cx="1224000" cy="12128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B\A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23" name="Rectangle 2"/>
          <p:cNvSpPr/>
          <p:nvPr/>
        </p:nvSpPr>
        <p:spPr>
          <a:xfrm>
            <a:off x="1411200" y="5651640"/>
            <a:ext cx="712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and B are not independ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(B\A) ≠ P(B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4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590E-73D9-4089-906E-2B0E0CD5E27E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2556000" y="333360"/>
            <a:ext cx="3456000" cy="57456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3c3cb6"/>
                </a:solidFill>
                <a:latin typeface="Lucida Calligraphy"/>
              </a:rPr>
              <a:t>2- Addition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514440" y="1052640"/>
            <a:ext cx="82803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) </a:t>
            </a:r>
            <a:r>
              <a:rPr b="1" lang="en-US" sz="2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A and B are mutually exclusive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occurrence of one event precludes the occurrence of the other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547640" y="2673360"/>
            <a:ext cx="5834160" cy="2987640"/>
            <a:chOff x="1547640" y="2673360"/>
            <a:chExt cx="5834160" cy="2987640"/>
          </a:xfrm>
        </p:grpSpPr>
        <p:sp>
          <p:nvSpPr>
            <p:cNvPr id="628" name="Oval 3"/>
            <p:cNvSpPr/>
            <p:nvPr/>
          </p:nvSpPr>
          <p:spPr>
            <a:xfrm>
              <a:off x="1547640" y="3571920"/>
              <a:ext cx="2376360" cy="208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Broadway"/>
                  <a:ea typeface="Arial"/>
                </a:rPr>
                <a:t>P(A)</a:t>
              </a:r>
              <a:endParaRPr b="1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9" name="Oval 7"/>
            <p:cNvSpPr/>
            <p:nvPr/>
          </p:nvSpPr>
          <p:spPr>
            <a:xfrm>
              <a:off x="5005440" y="3571920"/>
              <a:ext cx="2376360" cy="208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Broadway"/>
                  <a:ea typeface="Arial"/>
                </a:rPr>
                <a:t>P(B)</a:t>
              </a:r>
              <a:endParaRPr b="1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30" name="AutoShape 9"/>
            <p:cNvSpPr/>
            <p:nvPr/>
          </p:nvSpPr>
          <p:spPr>
            <a:xfrm>
              <a:off x="3349440" y="2673360"/>
              <a:ext cx="2232000" cy="1943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33cc33"/>
                  </a:solidFill>
                  <a:latin typeface="Broadway"/>
                  <a:ea typeface="Arial"/>
                </a:rPr>
                <a:t>Addition 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33cc33"/>
                  </a:solidFill>
                  <a:latin typeface="Broadway"/>
                  <a:ea typeface="Arial"/>
                </a:rPr>
                <a:t>Rule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31" name="Text Box 8"/>
          <p:cNvSpPr/>
          <p:nvPr/>
        </p:nvSpPr>
        <p:spPr>
          <a:xfrm>
            <a:off x="936720" y="6005520"/>
            <a:ext cx="7488000" cy="520560"/>
          </a:xfrm>
          <a:prstGeom prst="rect">
            <a:avLst/>
          </a:prstGeom>
          <a:solidFill>
            <a:srgbClr val="a5e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A OR B) = P(A U B) = P(A) + P(B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9C8D-F1B7-43E3-B948-B26D04754FEC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Oval 2"/>
          <p:cNvSpPr/>
          <p:nvPr/>
        </p:nvSpPr>
        <p:spPr>
          <a:xfrm>
            <a:off x="971640" y="1700280"/>
            <a:ext cx="3095640" cy="3025800"/>
          </a:xfrm>
          <a:prstGeom prst="ellipse">
            <a:avLst/>
          </a:prstGeom>
          <a:solidFill>
            <a:srgbClr val="d60093"/>
          </a:solidFill>
          <a:ln cap="sq"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P(A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142920" y="0"/>
            <a:ext cx="881532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i) </a:t>
            </a:r>
            <a:r>
              <a:rPr b="1" lang="en-US" sz="2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A and B are non mutually exclusive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Can occur together) Example: Male and smoker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142920" y="5862600"/>
            <a:ext cx="8893080" cy="520560"/>
          </a:xfrm>
          <a:prstGeom prst="rect">
            <a:avLst/>
          </a:prstGeom>
          <a:solidFill>
            <a:srgbClr val="a5e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A OR B) = P(A U B) = P(A) + P(B) - P(A ∩ B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6" name="AutoShape 6"/>
          <p:cNvSpPr/>
          <p:nvPr/>
        </p:nvSpPr>
        <p:spPr>
          <a:xfrm rot="2064000">
            <a:off x="6157800" y="1630080"/>
            <a:ext cx="2684520" cy="2558880"/>
          </a:xfrm>
          <a:prstGeom prst="pi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odified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ddition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ul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Oval 7"/>
          <p:cNvSpPr/>
          <p:nvPr/>
        </p:nvSpPr>
        <p:spPr>
          <a:xfrm>
            <a:off x="3492360" y="1700280"/>
            <a:ext cx="3095640" cy="3025800"/>
          </a:xfrm>
          <a:prstGeom prst="ellipse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  <a:ea typeface="Arial"/>
              </a:rPr>
              <a:t>P(B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8" name="Line 8"/>
          <p:cNvSpPr/>
          <p:nvPr/>
        </p:nvSpPr>
        <p:spPr>
          <a:xfrm flipH="1">
            <a:off x="3654360" y="2422440"/>
            <a:ext cx="162000" cy="17964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9" name="Line 9"/>
          <p:cNvSpPr/>
          <p:nvPr/>
        </p:nvSpPr>
        <p:spPr>
          <a:xfrm flipH="1">
            <a:off x="3527280" y="2637000"/>
            <a:ext cx="32400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0" name="Line 10"/>
          <p:cNvSpPr/>
          <p:nvPr/>
        </p:nvSpPr>
        <p:spPr>
          <a:xfrm flipH="1">
            <a:off x="3526920" y="2889360"/>
            <a:ext cx="35892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3529080" y="3095640"/>
            <a:ext cx="35856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2" name="Line 12"/>
          <p:cNvSpPr/>
          <p:nvPr/>
        </p:nvSpPr>
        <p:spPr>
          <a:xfrm flipH="1">
            <a:off x="3564000" y="3355920"/>
            <a:ext cx="35856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3685680" y="3676680"/>
            <a:ext cx="250920" cy="21744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4" name="Text Box 14"/>
          <p:cNvSpPr/>
          <p:nvPr/>
        </p:nvSpPr>
        <p:spPr>
          <a:xfrm>
            <a:off x="2770200" y="4925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A ∩ B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5" name="AutoShape 15"/>
          <p:cNvSpPr/>
          <p:nvPr/>
        </p:nvSpPr>
        <p:spPr>
          <a:xfrm>
            <a:off x="3635280" y="414972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6" name="Line 8"/>
          <p:cNvSpPr/>
          <p:nvPr/>
        </p:nvSpPr>
        <p:spPr>
          <a:xfrm flipH="1">
            <a:off x="3780000" y="3894120"/>
            <a:ext cx="156960" cy="16200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660-5FEA-4580-838E-8E4D55AAF551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Eras Bold ITC"/>
              </a:rPr>
              <a:t>Chapter 7</a:t>
            </a:r>
            <a:br>
              <a:rPr sz="3600"/>
            </a:br>
            <a:r>
              <a:rPr b="0" lang="en-US" sz="3600" spc="-1" strike="noStrike">
                <a:solidFill>
                  <a:srgbClr val="00b050"/>
                </a:solidFill>
                <a:latin typeface="Eras Bold ITC"/>
              </a:rPr>
              <a:t>Basic</a:t>
            </a:r>
            <a:r>
              <a:rPr b="0" lang="en-US" sz="3600" spc="-1" strike="noStrike">
                <a:solidFill>
                  <a:srgbClr val="000000"/>
                </a:solidFill>
                <a:latin typeface="Eras Bold ITC"/>
              </a:rPr>
              <a:t>  </a:t>
            </a:r>
            <a:r>
              <a:rPr b="0" lang="en-US" sz="3600" spc="-1" strike="noStrike">
                <a:solidFill>
                  <a:srgbClr val="ff0603"/>
                </a:solidFill>
                <a:latin typeface="Eras Bold ITC"/>
              </a:rPr>
              <a:t>Probability </a:t>
            </a:r>
            <a:r>
              <a:rPr b="0" lang="en-US" sz="3600" spc="-1" strike="noStrike">
                <a:solidFill>
                  <a:srgbClr val="00b050"/>
                </a:solidFill>
                <a:latin typeface="Eras Bold ITC"/>
              </a:rPr>
              <a:t>Concep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Lucida Calligraphy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use the term probability many times each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physician says that a persevering has a 50-50 chance of surviving a certain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technicians may say that the machine is 95%  that a machine  has a particular fail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B8A-431F-42FE-97D6-0035796D6883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2737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Lucida Calligraphy"/>
                <a:ea typeface="Latha"/>
              </a:rPr>
              <a:t>Definition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06520" y="691920"/>
            <a:ext cx="78436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any planned process of data collection. It consists of a number of trials (replications) under the same condi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pace: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llection of unique, non-overlapping possible outcomes of a random circum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event: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ne outcome in the sample space; a possible outcome of a random circum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: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collection of one or more simple events in the sample space; often written as A, B, C, and so on.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33cc33"/>
                </a:solidFill>
                <a:latin typeface="Arial Black"/>
                <a:ea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, Fem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5"/>
          <p:cNvSpPr/>
          <p:nvPr/>
        </p:nvSpPr>
        <p:spPr>
          <a:xfrm>
            <a:off x="3924360" y="5877000"/>
            <a:ext cx="2663640" cy="57924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01E0-DB3F-4C6F-AE04-EA4F23237E64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468360" y="1052640"/>
            <a:ext cx="82072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= sometimes, we want to know the probability that an event will not happen; an event opposite to the event of interest is called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mentary event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f A is an event, its complement is The probability of the complement is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or </a:t>
            </a:r>
            <a:r>
              <a:rPr b="1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Example: The complement of male event is the female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1835280" y="5753160"/>
            <a:ext cx="4968720" cy="71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A) + </a:t>
            </a:r>
            <a:r>
              <a:rPr b="1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A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) = 1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324000" y="189000"/>
            <a:ext cx="8351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3504-E12F-41D0-A4E6-3949AFD16B01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100080"/>
            <a:ext cx="788688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Probability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28560" y="1052640"/>
            <a:ext cx="78868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Probabilit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hance of occurrence of an events  , but question of a chance is because of uncertain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oint probability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ginal probability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ditional 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23DD-82E6-487A-90A2-3878BAB921BD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6000" y="404280"/>
            <a:ext cx="2195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blem 1.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539640" y="3645000"/>
          <a:ext cx="7921800" cy="2341440"/>
        </p:xfrm>
        <a:graphic>
          <a:graphicData uri="http://schemas.openxmlformats.org/drawingml/2006/table">
            <a:tbl>
              <a:tblPr/>
              <a:tblGrid>
                <a:gridCol w="2808360"/>
                <a:gridCol w="2665440"/>
                <a:gridCol w="1511280"/>
                <a:gridCol w="936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functiona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ction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</a:tr>
              <a:tr h="92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ubricat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d Not lubricat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</a:tr>
            </a:tbl>
          </a:graphicData>
        </a:graphic>
      </p:graphicFrame>
      <p:sp>
        <p:nvSpPr>
          <p:cNvPr id="601" name="Text Box 109"/>
          <p:cNvSpPr/>
          <p:nvPr/>
        </p:nvSpPr>
        <p:spPr>
          <a:xfrm>
            <a:off x="216000" y="1125360"/>
            <a:ext cx="8675640" cy="1800360"/>
          </a:xfrm>
          <a:prstGeom prst="rect">
            <a:avLst/>
          </a:prstGeom>
          <a:solidFill>
            <a:srgbClr val="3c3c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An outbreak of not functional occurs in a group of machines who attended in maintenance shop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Find the probability of not functional and applied lubricant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617F-A649-47F1-9AD9-EE25D3517BEF}" type="slidenum">
              <a:rPr b="1" lang="ar-SA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55640" y="-3708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0920" y="907560"/>
            <a:ext cx="7886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Lucida Calligraphy"/>
                <a:ea typeface="Times New Roman"/>
              </a:rPr>
              <a:t>The joint probability of not functional and applied lubric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)  =  110/200   = 0.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\applied lubricant) =  90/120     = 0.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two events are 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 ∩ applied lubrica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P(applied lubricant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 \ P(applied lubrica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(120/200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90/120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= 0.45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1748-DEBD-4F18-82D5-2423F61A8580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16360" y="620640"/>
            <a:ext cx="2087280" cy="74160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39640" y="1557000"/>
            <a:ext cx="806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1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he probability ranges between 0 and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f an outcome cannot occur, its probability is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f an outcome is sure, it has a probability of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he sum of probabilities of mutually exclusive outcomes is equal to 1               P(M) + P(F) =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FE9D-E195-4276-9840-2F21D0A6E83F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319640" cy="54468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ules of probability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23640" y="981000"/>
            <a:ext cx="7802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33cc33"/>
                </a:solidFill>
                <a:uFillTx/>
                <a:latin typeface="Lucida Calligraphy"/>
                <a:ea typeface="Times New Roman"/>
              </a:rPr>
              <a:t>1-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Lucida Calligraphy"/>
                <a:ea typeface="Times New Roman"/>
              </a:rPr>
              <a:t>Independence and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A and B) = P(A) P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5"/>
          <p:cNvSpPr/>
          <p:nvPr/>
        </p:nvSpPr>
        <p:spPr>
          <a:xfrm>
            <a:off x="1476360" y="2536920"/>
            <a:ext cx="2160720" cy="17287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A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586400" y="2565360"/>
            <a:ext cx="2160360" cy="1728720"/>
          </a:xfrm>
          <a:prstGeom prst="ellipse">
            <a:avLst/>
          </a:prstGeom>
          <a:solidFill>
            <a:srgbClr val="a5a5a5"/>
          </a:solidFill>
          <a:ln w="12600">
            <a:solidFill>
              <a:srgbClr val="78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B\A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3030480" y="3932280"/>
            <a:ext cx="2160720" cy="1728720"/>
          </a:xfrm>
          <a:prstGeom prst="ellipse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B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1238400" y="5661000"/>
            <a:ext cx="66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 and B are independ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B\A) = P(B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170-6FC0-4742-AE0D-81D38B1AE772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6:43:41Z</dcterms:created>
  <dc:creator>Mona Hassan Ahmed Hassan</dc:creator>
  <dc:description/>
  <dc:language>en-US</dc:language>
  <cp:lastModifiedBy>Ethiopia</cp:lastModifiedBy>
  <dcterms:modified xsi:type="dcterms:W3CDTF">2019-04-09T11:36:22Z</dcterms:modified>
  <cp:revision>148</cp:revision>
  <dc:subject/>
  <dc:title>Basic ProbabilityConcepts</dc:title>
</cp:coreProperties>
</file>