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F5D-1F91-4D6E-842E-A0BAB7DC1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6D7F-FD0F-40F2-AAEE-69A0503A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7AB-EB2C-4E31-B032-F189422B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807-8BB9-44D6-93EE-C64B258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A6F-BB11-4B53-8AE0-2123AB0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E6E-5397-4D40-B688-97FAC813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088-0B96-4E93-9E44-846A1E9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ACB-8E2D-410C-8C37-E25E4845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BA5-BFFF-4658-9068-8849548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C7B-E789-4F39-961A-6D28B6C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417-0E75-4262-BDA6-DE79205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C4A-BA32-40B2-98F8-DE70830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940-C7F3-40B2-9A23-E62187A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38A-BE0D-4A30-9A86-EE23E27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8CB-E17B-4F9E-AA53-F797815420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anced Computing, M.Tech 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7B8D-56BC-4317-A9F3-C2F7745E57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624880" cy="57006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A1E-9357-4A2B-9DD7-A639391161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a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as a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 model in which an organization outsources the equipment used to support operations, including storage, hardware, servers and networking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 provider owns the equipment and is responsible for housing, running and maintain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ent typically pays on a per-us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3A0C-C80E-4B4F-9FEE-9F8FCAAF57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8558-8470-44A5-BA7F-7DB8D280C4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89C-C5DC-49B9-B0C8-19208A8432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C0E-16EE-49EB-AA26-C8BE3704E6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-based computing, where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vided to computers and other devices on demand, like the electricity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 to anything that involves delivering hosted services over the internet and encompasses any subscription-based or pay-by-use service that, in real time, extends IT’s exis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3AE7-6692-4369-A5B9-FE42309D9A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lou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-scal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models of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y-interactive Web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B1E2-DD4C-4EC9-A4D5-CFDCC9E1D8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gments of Cloud Compu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has three main segments which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(S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(P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(I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gment serves different products for businesses and individuals with different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AF54-A558-491D-B198-B7BA4834F4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(Sa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sed on, demand softwar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software services come in different varieties. They vary in their pricing scheme and how the software is delivered to the end u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force.com (CRM), Google (GOOG) and NetSuite (N) are some of the companies which provide on demand software or Saa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8C9-513E-4DFB-93A0-F526C031C5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Segment (Pa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products that are used to deploy inter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Suite, Amazon, Google, and Microsoft have also developed platforms that allow users to access applications from centralized ser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, Net Suite, Rackspace cloud, amazon.com and salesforce are some of the active plat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68AD-51F0-4EED-9EF7-27849B7BB8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S cont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ly data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so be processing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ing, indexing, searching, min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omics” life scien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ientific data (physics, astronom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2.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3A77-EB13-428B-8A3D-FC88D679CA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68F8-0B99-480E-95BE-5DAB1E26AF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egment :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S, the backbone of the entire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vendors’ environments such as Google gears allow users to build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storage, such as Amazon’s S3, is also considered to be part of the infrastructure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B7C1-D400-4115-A42F-7C055C6096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0467-7909-43B4-85D5-5F79D7E557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coloandcloud.com/wp-content/uploads/2012/05/PaaS-Chart.gif"/>
          <p:cNvPicPr/>
          <p:nvPr/>
        </p:nvPicPr>
        <p:blipFill>
          <a:blip r:embed="rId1"/>
          <a:stretch/>
        </p:blipFill>
        <p:spPr>
          <a:xfrm>
            <a:off x="357120" y="285840"/>
            <a:ext cx="7934400" cy="59529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E0D0-7993-45FA-A5FB-6745661F20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4-27T23:24:24Z</dcterms:modified>
  <cp:revision>744</cp:revision>
  <dc:subject/>
  <dc:title>Diapositiva 1</dc:title>
</cp:coreProperties>
</file>