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C1AA-F490-4BB9-A4AE-D12C1756A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5FC2-1C71-43AD-A1AE-32EBE7977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B3A3-2C71-4829-B3D2-96842F6B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FA1-5609-47FC-9425-841C4079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166-1DF6-41D9-BBD8-8B7CDDC5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7C3B-3ECC-4877-BAD2-7D36F8C8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9B0-C21F-4148-B516-A45D36E6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0E2-CD27-4AD4-97FB-4CD0C783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BBF-63F4-42DA-A098-871C6468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DFDC-FE4A-4FF8-979B-A4E3151C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E7F-176B-43A7-B92A-753DAA76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4E9-5D8A-438C-919D-0C7C4AFA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502-F932-4BE8-AEB5-260475F8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96D-9D92-4F26-88BD-4B372667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F96E-C089-4A45-8B1D-825068A7B4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dvanced Computing, M.Tech 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69D3-94E0-40D2-BE1F-9ED54E0880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04920" y="500040"/>
            <a:ext cx="8624880" cy="570060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5BF1-5B9B-472D-B0D9-015C86FA2BC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a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astructure as a Serv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sion model in which an organization outsources the equipment used to support operations, including storage, hardware, servers and networking compon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rvice provider owns the equipment and is responsible for housing, running and maintaining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ient typically pays on a per-use b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0F62-CE2F-497F-A7F1-6BE318147F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2530-C90B-4B6B-A546-FBF6714082F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 Computing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3CF7-E4B4-4D0A-979B-7259A78D00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8AEC-FDE8-402F-B87B-1FC6B42E2A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4400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ud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-based computing, where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resourc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provided to computers and other devices on demand, like the electricity gr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s to anything that involves delivering hosted services over the internet and encompasses any subscription-based or pay-by-use service that, in real time, extends IT’s existing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ACC6-F71B-4F5C-AE86-1F8AC71D08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lou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-scale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data cen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models of c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ly-interactive Web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BFCC-0F09-4D34-A35D-26377DBD34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gments of Cloud Compu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 computing has three main segments which are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(Sa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(Pa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(Ia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egment serves different products for businesses and individuals with different purp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5EA7-8CE6-4288-B527-A8CA8BED9C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(Sa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based on, demand software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demand software services come in different varieties. They vary in their pricing scheme and how the software is delivered to the end us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force.com (CRM), Google (GOOG) and NetSuite (N) are some of the companies which provide on demand software or SaaS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8E5A-A75F-475F-B4AE-4DB7148AE1C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tform Segment (Pa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s to products that are used to deploy intern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Suite, Amazon, Google, and Microsoft have also developed platforms that allow users to access applications from centralized serv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, Net Suite, Rackspace cloud, amazon.com and salesforce are some of the active plat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4C58-EFA3-4563-9C87-A7417C6F0D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aS cont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ely data-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also be processing 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wling, indexing, searching, mining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genomics” life science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cientific data (physics, astronom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2.0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FAD0-38A2-4BD1-9AAE-15D6E56A65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8578-53AC-4865-93AE-FDA3DB6AAFC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segment : infra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aS, the backbone of the entire concep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vendors’ environments such as Google gears allow users to build applic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ud storage, such as Amazon’s S3, is also considered to be part of the infrastructure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D609-C1DA-42AE-BA4B-03D35535BE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B596-9A92-4413-BCEE-1ED6EEFD857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www.coloandcloud.com/wp-content/uploads/2012/05/PaaS-Chart.gif"/>
          <p:cNvPicPr/>
          <p:nvPr/>
        </p:nvPicPr>
        <p:blipFill>
          <a:blip r:embed="rId1"/>
          <a:stretch/>
        </p:blipFill>
        <p:spPr>
          <a:xfrm>
            <a:off x="357120" y="285840"/>
            <a:ext cx="7934400" cy="595296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BF43-1A46-4460-B25E-941C936231A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0-04-27T23:24:24Z</dcterms:modified>
  <cp:revision>744</cp:revision>
  <dc:subject/>
  <dc:title>Diapositiva 1</dc:title>
</cp:coreProperties>
</file>