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54B6-3779-46C0-8168-BA1EC3C7E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F860-0B69-4D58-BB32-75FCB4DCC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6F13-89CA-44D5-977F-8A78DAF4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AA2B-0582-431A-9EEA-DD4DD2FDD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C8A6-A7D6-48C3-B4D3-A539EBBB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A16-F3BD-41F5-A096-52924CCA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32D-DCA1-4852-A064-7DE4CF19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C19-E1D1-4342-B8F1-ACBA9099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C98-66B9-4E54-8E9A-847DE1E5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FD6-B875-467E-A1FA-BF6DE767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9FB-C9E7-42F2-8755-D82C2F96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C80-E591-405D-A79A-D841245D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6DC-DB35-4A35-A3AE-CB0F09B1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73A-350B-402A-BDD9-218C45FB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FCA-32BF-418E-AF16-32B5861F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1FF-F2D3-45BB-AA99-A40E8F10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8C0-D148-4825-894E-F6EAD17C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134B-E05C-4353-959F-A20CCBBE5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578640"/>
            <a:ext cx="2602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© Food – a fact of lif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logoFafol"/>
          <p:cNvPicPr/>
          <p:nvPr/>
        </p:nvPicPr>
        <p:blipFill>
          <a:blip r:embed="rId2"/>
          <a:stretch/>
        </p:blipFill>
        <p:spPr>
          <a:xfrm>
            <a:off x="7308720" y="260280"/>
            <a:ext cx="158904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Gothic"/>
              </a:rPr>
              <a:t>The link between diet and diseas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064360" y="658332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Cancer preven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World Cancer Research Fund has released 8 prevention strategies for canc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1. Be as lean as possible within the normal range of body weigh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2. Be physically active as part of everyday lif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3. Limit consumption of energy dense food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4. Eat mostly foods of plant origi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5. Limit intake of red meat and avoid processed mea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6. Limit alcoholic drink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7. Limit consumption of sal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8. Aim to meet nutritional needs through diet alon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Coronary heart disea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oronary heart disease (CHD) is caused by a narrowing of the blood vessels to the heart. This reduces the flow of blood to the hear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f one of the blood vessels becomes completely blocked, the blood supply to part of the heart stops and that part is damaged. This is called a heart attack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Rates of CH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D is more common in men than in wome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Risk of CH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5384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- being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al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lder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 cigarette smoker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verweigh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activ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tresse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356000" y="2781360"/>
            <a:ext cx="453708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- ha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 family history of CH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blood cholesterol lev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blood press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intake of saturated fa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iab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413000"/>
            <a:ext cx="8280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chance of suffering from CHD is affected by many factors. These are called risk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actors that increase the risk of CHD includ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Diet and CH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intakes of fat, especially saturated fat can increase the amount of cholesterol in the bloo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anges to the diet to reduce the risk of CHD includ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creasing oily fish intak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ducing salt intak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crease fruit and vegetable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ecrease alcohol consump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Blood cholesterol leve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olesterol is a type of fat that is needed to make cell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 the body function properly. It is produced in th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iver and some is also obtained from the diet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olesterol is carried around the body in the blood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levels of cholesterol in blood increase the risk of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level of cholesterol in the blood depends partly o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genetic factors, but can also be affected by die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Cholesterol and the die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level of blood cholesterol is affected by the amount and type of fat in the diet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igh intakes of saturated fatty acids, and of total fat, can increase the amount of cholesterol in the blood, and therefore increase the risk of CH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ost people are consuming too much saturated fat and need to switch to foods containing unsaturated fa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Obes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68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f a person regularly consumes more energy from food and drink than they need, they will start to gain weight, eventually becoming overweight. For example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ergy in &gt; energy ou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xtra energy from food and drink is stored in the body as fa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re are a range of weights which are considered healthy for a given heigh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 person who is very overweight is obes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Problems associated with obes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People who are obese are more likely to suffer from coronary heart disease, type 2 diabetes, arthritis, high blood pressure and some types of cance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Being active is important in maintaining a healthy weigh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Being slightly overweight is not a risk to health, but it is important to not continue gaining weight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" name="Picture 5" descr="waist measurement 2"/>
          <p:cNvPicPr/>
          <p:nvPr/>
        </p:nvPicPr>
        <p:blipFill>
          <a:blip r:embed="rId1"/>
          <a:stretch/>
        </p:blipFill>
        <p:spPr>
          <a:xfrm>
            <a:off x="6372360" y="5445000"/>
            <a:ext cx="220644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Bone healt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alcium is important for strong bones. Vitamin D is needed for calcium to be absorbed from foo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steoporosis is a disease where bones become weak, brittle and break easily. It is caused by severe losses of calcium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2" name="Picture 5" descr="MPj03858100000[1]"/>
          <p:cNvPicPr/>
          <p:nvPr/>
        </p:nvPicPr>
        <p:blipFill>
          <a:blip r:embed="rId1"/>
          <a:stretch/>
        </p:blipFill>
        <p:spPr>
          <a:xfrm>
            <a:off x="6948360" y="3933720"/>
            <a:ext cx="18241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understand that diet has an impact on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understand the concept of malnutrition, i.e. under nutrition and over nutri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know a variety of dietary related diseases and their associated risk factors, e.g. coronary heart disease, obesity, osteoporosis, iron deficiency and anaemia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Osteoporosi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ealthy bone is strong and does not break easil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uring childhood, adolescence and early adulthood, calcium and other substances are added to the bone. This makes it strong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fter the age of 30-35, bone loss begins. After the menopause women lose bone at an increased rat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5" name="Picture 4" descr="woman reading"/>
          <p:cNvPicPr/>
          <p:nvPr/>
        </p:nvPicPr>
        <p:blipFill>
          <a:blip r:embed="rId1"/>
          <a:stretch/>
        </p:blipFill>
        <p:spPr>
          <a:xfrm>
            <a:off x="7524720" y="5084640"/>
            <a:ext cx="103176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Bone healt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trong bones contain plenty of calcium and their strength is affected by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genetic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ex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die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xercis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body weigh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ormon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Anaem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mineral iron is vital for making red blood cells. Iron from the diet forms haemoglobin, which carries oxygen in the bloo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f the body’s store of iron is low and there is too little iron in the diet, the symptoms of iron deficiency anaemia will start to develop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arge amounts of iron can be toxic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Picture 4" descr="MPj04331490000[1]"/>
          <p:cNvPicPr/>
          <p:nvPr/>
        </p:nvPicPr>
        <p:blipFill>
          <a:blip r:embed="rId1"/>
          <a:stretch/>
        </p:blipFill>
        <p:spPr>
          <a:xfrm>
            <a:off x="6372360" y="4797360"/>
            <a:ext cx="23367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Blood healt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ron from animal sources is more easily absorbed than iron from plant sources. Vitamin C increases absorption of iron from plant sourc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t is important that the diets of infants and young children contain foods rich in ir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ron requirements increase during adolescence because of growth and for girls at the start of menstru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women have very high iron requirements because they have large menstrual loss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Review of the learning objectiv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understand that diet has an impact on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understand the concept of malnutrition, i.e. under nutrition and over nutri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know a variety of dietary related diseases and their associated risk factors, e.g. coronary heart disease, obesity, osteoporosis, iron deficiency and anaemia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New Picture (2)"/>
          <p:cNvPicPr/>
          <p:nvPr/>
        </p:nvPicPr>
        <p:blipFill>
          <a:blip r:embed="rId1"/>
          <a:stretch/>
        </p:blipFill>
        <p:spPr>
          <a:xfrm>
            <a:off x="1332000" y="1989000"/>
            <a:ext cx="6192720" cy="3268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A balanced die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74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 balanced diet is based on the guidelines of The eatwell plat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n unbalanced diet can lead to dietary related diseas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Malnutri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aving intakes of energy and/or nutrients below or in excess of needs for long periods of time can affect health. This is called malnutri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evere under nutrition (having an intake of energy and/or nutrients below what is needed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hildren suffer the effects of starvation (not enough food) more quickly than adult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Under nutri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orldwide, Kwashiorkor and marasmus are two common diseases caused by a lack of protein and energ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Fat soluble vitamins (A, D, E and K) and minerals are stored in the body so it takes time for deficiency diseases to develop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ater soluble vitamins are not stored in the body so low intakes usually lead to signs of deficiency relatively quickl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Over nutri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68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ver nutrition is a problem usually associated with developed countries, such as the United Kingdom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most common over nutrition problem is obesity with too much energy being consumed, or high levels of inactivit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Risks of malnutri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risk of malnutrition is increased by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creased requirements for some nutrient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stricted range of food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duction in available incom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very low incom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medical condition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psychological condition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Risk factors for canc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ancer is a complex disease which can take a long time to develop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 wide variety of factors are involved in the development of cancer, including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age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genetic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vironment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hormones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fections.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Common canc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17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ancer is the development of abnormal cells in the bod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ancer can occur in different parts of the bod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 most common cancers ar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ung, prostate and colon cancer in men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 • 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breast, lung and colon cancer in wome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2:28:51Z</dcterms:created>
  <dc:creator>Michelle Rowcliffe</dc:creator>
  <dc:description/>
  <dc:language>en-US</dc:language>
  <cp:lastModifiedBy>tosh</cp:lastModifiedBy>
  <dcterms:modified xsi:type="dcterms:W3CDTF">2016-02-27T23:17:52Z</dcterms:modified>
  <cp:revision>86</cp:revision>
  <dc:subject/>
  <dc:title>Nutrients </dc:title>
</cp:coreProperties>
</file>