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BDD-A0FC-441E-9037-C37B777B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ACF-85FA-4348-B45A-FCB4C260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E997-3374-4DA1-8377-14B1EEA8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B980-B29B-4163-88EC-3FC0EDC1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269D-4C86-466F-8754-F66E5CFB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29C-47A8-41C8-8916-9B82ECCD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F22-B83C-4D78-9624-2FE37B0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5A7-317E-4272-B414-7725C7D4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89C-3539-4617-A6BD-BD60707E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893-6CA2-4300-9E07-D42711E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716-2020-4E0B-BE1E-68D9DA46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B7D-0C45-46EB-8E92-A9E4694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B0D-3BD4-4510-B59F-7099713D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1B7-5E83-4D50-A1E3-D450CAD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40D-FB2D-4FE0-829A-200340C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308-63F3-4408-A995-E457B18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101-7F2B-4863-8923-753DA64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D1C-84AD-4437-AB43-9EFD3BDB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578640"/>
            <a:ext cx="260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© Food – a fact of lif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logoFafol"/>
          <p:cNvPicPr/>
          <p:nvPr/>
        </p:nvPicPr>
        <p:blipFill>
          <a:blip r:embed="rId2"/>
          <a:stretch/>
        </p:blipFill>
        <p:spPr>
          <a:xfrm>
            <a:off x="7308720" y="260280"/>
            <a:ext cx="158904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Gothic"/>
              </a:rPr>
              <a:t>The link between diet and diseas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064360" y="65833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ancer preven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World Cancer Research Fund has released 8 prevention strategies for canc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1. Be as lean as possible within the normal range of body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2. Be physically active as part of everyday lif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3. Limit consumption of energy dense foo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4. Eat mostly foods of plant origi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5. Limit intake of red meat and avoid processed me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6. Limit alcoholic drink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7. Limit consumption of sal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8. Aim to meet nutritional needs through diet alo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oronary heart disea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oronary heart disease (CHD) is caused by a narrowing of the blood vessels to the heart. This reduces the flow of blood to the hear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one of the blood vessels becomes completely blocked, the blood supply to part of the heart stops and that part is damaged. This is called a heart attac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ates of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D is more common in men than in wom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 of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538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- being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al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lder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cigarette smoker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verweigh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activ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tresse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356000" y="2781360"/>
            <a:ext cx="4537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- ha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family history of CH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blood cholesterol lev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blood press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 of saturated f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ab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413000"/>
            <a:ext cx="8280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chance of suffering from CHD is affected by many factors. These are called risk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actors that increase the risk of CHD includ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Diet and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s of fat, especially saturated fat can increase the amount of cholesterol in the bl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anges to the diet to reduce the risk of CHD inclu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ing oily fish intak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ducing salt intak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e fruit and vegetable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ecrease alcohol consump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lood cholesterol leve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olesterol is a type of fat that is needed to make cell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 the body function properly. It is produced in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iver and some is also obtained from the die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olesterol is carried around the body in the blood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levels of cholesterol in blood increase the risk of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level of cholesterol in the blood depends partly o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 factors, but can also be affected by die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holesterol and the di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level of blood cholesterol is affected by the amount and type of fat in the die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s of saturated fatty acids, and of total fat, can increase the amount of cholesterol in the blood, and therefore increase the risk of CH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ost people are consuming too much saturated fat and need to switch to foods containing unsaturated f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a person regularly consumes more energy from food and drink than they need, they will start to gain weight, eventually becoming overweight. For example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ergy in &gt; energy ou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xtra energy from food and drink is stored in the body as f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re are a range of weights which are considered healthy for a given h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person who is very overweight is obes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Problems associated with obes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People who are obese are more likely to suffer from coronary heart disease, type 2 diabetes, arthritis, high blood pressure and some types of cance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eing active is important in maintaining a healthy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eing slightly overweight is not a risk to health, but it is important to not continue gaining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" name="Picture 5" descr="waist measurement 2"/>
          <p:cNvPicPr/>
          <p:nvPr/>
        </p:nvPicPr>
        <p:blipFill>
          <a:blip r:embed="rId1"/>
          <a:stretch/>
        </p:blipFill>
        <p:spPr>
          <a:xfrm>
            <a:off x="6372360" y="5445000"/>
            <a:ext cx="22064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one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lcium is important for strong bones. Vitamin D is needed for calcium to be absorbed from f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steoporosis is a disease where bones become weak, brittle and break easily. It is caused by severe losses of calciu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2" name="Picture 5" descr="MPj03858100000[1]"/>
          <p:cNvPicPr/>
          <p:nvPr/>
        </p:nvPicPr>
        <p:blipFill>
          <a:blip r:embed="rId1"/>
          <a:stretch/>
        </p:blipFill>
        <p:spPr>
          <a:xfrm>
            <a:off x="6948360" y="3933720"/>
            <a:ext cx="1824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at diet has an impact on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e concept of malnutrition, i.e. under nutrition and over 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know a variety of dietary related diseases and their associated risk factors, e.g. coronary heart disease, obesity, osteoporosis, iron deficiency and anaemi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lthy bone is strong and does not break easi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uring childhood, adolescence and early adulthood, calcium and other substances are added to the bone. This makes it strong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fter the age of 30-35, bone loss begins. After the menopause women lose bone at an increased ra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Picture 4" descr="woman reading"/>
          <p:cNvPicPr/>
          <p:nvPr/>
        </p:nvPicPr>
        <p:blipFill>
          <a:blip r:embed="rId1"/>
          <a:stretch/>
        </p:blipFill>
        <p:spPr>
          <a:xfrm>
            <a:off x="7524720" y="5084640"/>
            <a:ext cx="10317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one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trong bones contain plenty of calcium and their strength is affected by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ex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e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xercis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ody weigh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ormon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Anaem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ineral iron is vital for making red blood cells. Iron from the diet forms haemoglobin, which carries oxygen in the bl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the body’s store of iron is low and there is too little iron in the diet, the symptoms of iron deficiency anaemia will start to develo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arge amounts of iron can be toxi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4" descr="MPj04331490000[1]"/>
          <p:cNvPicPr/>
          <p:nvPr/>
        </p:nvPicPr>
        <p:blipFill>
          <a:blip r:embed="rId1"/>
          <a:stretch/>
        </p:blipFill>
        <p:spPr>
          <a:xfrm>
            <a:off x="6372360" y="4797360"/>
            <a:ext cx="23367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lood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ron from animal sources is more easily absorbed than iron from plant sources. Vitamin C increases absorption of iron from plant 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t is important that the diets of infants and young children contain foods rich in ir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ron requirements increase during adolescence because of growth and for girls at the start of menstru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women have very high iron requirements because they have large menstrual los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eview of the learning object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at diet has an impact on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e concept of malnutrition, i.e. under nutrition and over 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know a variety of dietary related diseases and their associated risk factors, e.g. coronary heart disease, obesity, osteoporosis, iron deficiency and anaemi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ew Picture (2)"/>
          <p:cNvPicPr/>
          <p:nvPr/>
        </p:nvPicPr>
        <p:blipFill>
          <a:blip r:embed="rId1"/>
          <a:stretch/>
        </p:blipFill>
        <p:spPr>
          <a:xfrm>
            <a:off x="1332000" y="1989000"/>
            <a:ext cx="6192720" cy="3268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A balanced di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balanced diet is based on the guidelines of The eatwell pla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n unbalanced diet can lead to dietary related disea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aving intakes of energy and/or nutrients below or in excess of needs for long periods of time can affect health. This is called mal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evere under nutrition (having an intake of energy and/or nutrients below what is needed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ildren suffer the effects of starvation (not enough food) more quickly than adul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Under 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rldwide, Kwashiorkor and marasmus are two common diseases caused by a lack of protein and energ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at soluble vitamins (A, D, E and K) and minerals are stored in the body so it takes time for deficiency diseases to develo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ater soluble vitamins are not stored in the body so low intakes usually lead to signs of deficiency relatively quick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ver 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ver nutrition is a problem usually associated with developed countries, such as the United Kingd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ost common over nutrition problem is obesity with too much energy being consumed, or high levels of inactivit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s of mal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risk of malnutrition is increased by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ed requirements for some nutrient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tricted range of food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duction in available incom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very low incom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edical condition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psychological condition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 factors for canc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is a complex disease which can take a long time to develop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wide variety of factors are involved in the development of cancer, including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g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vironmen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ormone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fections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ommon canc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is the development of abnormal cells in the bo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can occur in different parts of the bo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ost common cancers ar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ung, prostate and colon cancer in men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reast, lung and colon cancer in wom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2:28:51Z</dcterms:created>
  <dc:creator>Michelle Rowcliffe</dc:creator>
  <dc:description/>
  <dc:language>en-US</dc:language>
  <cp:lastModifiedBy>tosh</cp:lastModifiedBy>
  <dcterms:modified xsi:type="dcterms:W3CDTF">2016-02-27T23:17:52Z</dcterms:modified>
  <cp:revision>86</cp:revision>
  <dc:subject/>
  <dc:title>Nutrients </dc:title>
</cp:coreProperties>
</file>