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45"/>
          </p:nvPr>
        </p:nvSpPr>
        <p:spPr>
          <a:xfrm>
            <a:off x="523188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ftr" idx="46"/>
          </p:nvPr>
        </p:nvSpPr>
        <p:spPr>
          <a:xfrm>
            <a:off x="-360" y="665748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 type="sldNum" idx="47"/>
          </p:nvPr>
        </p:nvSpPr>
        <p:spPr>
          <a:xfrm>
            <a:off x="5231880" y="665748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1292-4DAC-498F-B113-388B271E6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5232240" y="665784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7076-9B51-4F55-865F-D95256A57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3647-7D41-4232-98D7-568BECC9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90A8-1D49-46F0-B249-43F8B30F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B5932-DFCE-49F2-A1AC-E3E31464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B544A-2CDD-45DC-AC4A-6450254A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BA112-6A70-4843-A599-38522283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56993-085C-4845-BEFD-948FFCC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02A5D-BF56-4A15-BC1E-5AB9B99F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F70F4-5484-4B49-8D98-5BADFFA2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D6749-D804-45CF-83E6-23400368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9CC97-833C-4DE0-997E-464B6CC7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BB783-4B9E-495B-B99D-0F322546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32A8A-B5C9-4AB0-90EF-155189F7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D860-5A39-4CD9-B219-C54416D8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34652-CA9A-469F-B9F4-553D41B2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5F44A-2966-40CC-B303-33F27C52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C91CF-5AE6-4112-BA52-D881F117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3D982-BA88-4B51-9AF4-5F850FBA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7B5AA-7FC6-42CF-8427-6B15AECD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6C26F-822F-4D05-A636-2A75F8E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26D94-6F04-46FF-8069-B941CD3B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6B8E8-7D21-4B5E-9B32-D072ACE0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5853C-87EC-46CA-B30E-B78BB95E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539A5-62D6-4CDA-90BA-4EAF97F4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A43D-9B43-4E02-8500-E5BE9FE4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16C3B-0786-4A2F-B70C-0E65A16B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90531A-CE3D-47CA-82E5-F1A74E8B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0E718D-CFFB-48E6-A95F-91773B9A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9C01DB-B823-40FC-A244-C88B467F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542251-ECC0-4441-A1B8-9D6C7F3F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83A366-6294-4BF2-829B-B59EA5A4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542755-3467-41CD-A1B8-78A391E2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A30915-FA05-47B1-934F-817E7F51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2BFFC7-AE4D-41C5-84C6-F342F84A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EBF006-E91E-4207-AEE6-F662151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46D246-5D0C-4A09-BD3D-07E44201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7DB35B-E710-4BEE-8233-ED3A8D16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174924-644E-4E1C-9F6E-18AFF493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B6AB8-7B9D-4570-8BD9-EBB84372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4D502-D960-44CF-A861-9E5E4919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D33ED-4B63-4B2B-B436-7C45837A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7445B-7836-4CFB-AC2A-E40BAEAD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26658-6C7A-4F18-997E-60B4DB12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18391-1206-4588-989B-8349D207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48F78-85F3-4EA8-8842-55BC07D3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91277-FE6F-4600-A603-D30559D5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D2CD0-18BE-4FA8-AD96-30FB405E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A0AE4-55B9-42AC-B7A9-FB5F4A73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B1294-9F2C-4DCA-8849-19E2B714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1EA8B-36E7-45E8-A039-33C51AFB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2C54AA-B865-4BB1-A67B-CEA356A4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D4DFEC-50B9-475E-AC41-2598A483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C6FE91-A571-4F48-81C4-47A2C07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EF37D0-22AB-47F8-90FA-9B40BF59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C31901-A35D-4635-8F00-3A8CCC9E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8978B4-A2F3-4E9E-B387-98857151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EE3753-14A3-4C51-8726-E13150A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F9EBAC-CB7E-44F2-A8B2-D9C9F5A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05B501-73F4-45CE-9798-0F0866C2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00BCE8-4E17-4BE9-A029-2DE0D548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F3A0F5-450F-4B57-91A4-B1586FE8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1B5ECC-A58E-4D1D-AA65-B9BC41AD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C54735-F912-4FCB-9CE7-B3423A94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41E776-C400-4633-AF99-44C70FFD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6E6FC0-2940-450D-A694-BA7D9C66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C2B595-6E93-40CD-8785-A915AB8D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5630CC-0B05-4B0C-8EF6-F4ED0F7A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990584-05D1-42D6-886E-B4F65BDB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D22473-532A-4902-A636-C5BA8B7E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9D0FF5-977C-466F-B168-956E1812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B238E1-472B-4976-8318-9524CE5F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F1715B-D149-44F1-BA3C-8A92D0D5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38F71A-8A20-4628-BA34-C61EE437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F79135-0125-4E41-9F2B-7A5CDBE0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909E13-32A0-40AE-9393-64B7DB27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9A47C5-6904-492B-BCAA-69E285E2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D1457D6-8489-4EAA-83BC-94392DDD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BB6DD5-4C86-4498-9C67-97FFB238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CBF1C4-73AD-4204-9631-0EFAF9B2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152D67E-39F5-48EF-8506-C3B37304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746F63-20E4-4290-9502-29026B52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B5656E0-C57E-4FA7-A531-E0915422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10B9EF-E024-4159-A1F9-862D6339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35682C-BB15-4561-BB2B-1D80BBB9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6842C5-770E-4BA5-A29F-5EADA047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46D865-FF3A-4FF5-BB17-F2134A9A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2179-D9DE-40AD-A2BF-FFDFB99F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3F2A5-C08C-437A-AF2D-73A0C57B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64BCE-4ABD-4D2D-8B2A-3EC8860C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32B00-B0D8-495F-9BB4-4B2891BA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B2830-40F0-4B49-ABFB-93086331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3B7487-8ACC-4108-B103-C9544DDC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18F5-CD19-4AA2-A87A-077907DD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3425B-007D-45E8-BE63-894002C1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F32A2-DA66-4EF9-A1D0-4494805C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F58E2-055E-4085-83DB-B1E110D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5117C1-2096-4E5E-BDCB-2FD797B2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EA701C-2249-4B71-B62F-6BA2BDD7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AE418-1D7B-4A7B-B9A5-C3EF164A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5183A-185D-4311-8641-3F4CD8AA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97A06-6691-4500-9076-C21E90BF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381365-355E-4C9C-876B-BBE71DDC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BEE34-17D8-4E4A-B27C-9BFDC860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322E8-5B31-49ED-B311-5BAB99CD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6574F-40D6-4139-8769-518AD7E4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0EDBE-16E1-47B5-AAAF-2D2926EE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4D56E-5CF8-4DD0-9895-2217BCD5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304BE-625A-4B8E-B594-81A4078A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0E1569-9361-4889-B61C-6FA3C253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395CD-2157-4F05-BCF4-8C9227B9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CDC776-FF6D-43D0-B659-BCA43884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455BB-B4C1-4085-BDCA-CDC6A274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B16C3F-9423-4B26-8E49-F20C7222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1B6758-4F50-4643-B416-EEB08AAD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9219-4841-4910-B37E-2A0C55AB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9991F1-0396-435E-9128-E6DBFD9A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C60F5C-F7ED-4A84-8A6D-5CDDC132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8C83E4-CA31-4747-996F-0A29BC55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604F2B-71CC-4AE3-B4D0-0A3EB1E2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8111F6-7B57-4F72-BAFA-C93E27FD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A21A5A-7AAA-4AC9-A949-2C54A80D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41D00E-17C5-45D8-84F8-897577B8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22391E-B364-48DA-8886-5D17023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04D231-DEF8-48AB-AFA4-0AD1AD68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EA7698-230E-49A4-BD73-1C3E6357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DB3A-6F75-4F61-8DAC-A072914C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0C76F-3AE4-4693-8F7B-31F7B0B2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CB1F22-65F4-47F2-A948-7859E24C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95CC0D-A41B-462F-A00C-2D3684AE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BD908D-06A7-4FE3-A6B8-44FD2245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A8A183-7636-4627-910E-FDF48AFC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E2596-EAE8-4498-88FB-0BC1A8CC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8C5FB-3275-4890-B0A8-2792584F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4FC89F-A93B-4AA0-8B85-B33656CA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242528-165C-41BF-8068-2447F4BF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08F4E4-3A45-4BE8-8D62-84EFA58C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E5CC-122D-46ED-902D-8C793D7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25DE89-EB78-40E5-8DBD-D167CA5D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E214CE-CD06-41F9-9AD8-0AB32F29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F10E48-5BE0-4EE5-AD9B-A18D6035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0B823A-E008-4691-A634-16D2A51E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4AA05D-FEB5-4B05-ABE2-6CDDF058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65FE2D-058F-4B9C-AB7F-FC8BE93E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0706D0-0306-4F6C-AD81-9ED55E00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B0CA63-79C1-45B4-A526-0E3A1978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0F2FAE-816E-45CF-AF11-8108CACE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59B926-2BBD-43D8-8AEE-D6C2C3F3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D24B-3843-4E3B-A305-CB6E2F99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215070-6B40-44B5-AD60-F0076F7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9E4E1D-B8AD-4F3B-8036-7D370602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1BA000-207C-47DB-8D3D-6910D202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9DC11F-1973-4DB5-9FEC-2768447A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5FF34E-83DE-44B1-AA45-D2911B27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B1F908-38DB-4C70-9FB1-B0ECA041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7FB009-18BD-47D8-BA52-A97F3769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8066D-0287-4142-BDFD-837A17BA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865AE4-3A47-40BB-833F-E978AB92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856A0D-F6DD-4F19-85C7-7A8D85A8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1E06-F9B5-45AE-8E0B-FF450683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03B1A9-AC6E-4D2A-B139-DB65D8B9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8333C8-5C9B-4D40-B8AF-97C0F8EF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E1EEFA-1299-4F42-9462-41D044E4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2D7CAC-B62C-453D-AF9A-93C313B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63FC22-70E3-4654-96CB-B87DE826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9354FD-CFF8-405F-ABC3-0E905C1A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E7EC7D-0BF1-4AEE-9E8A-81E6C11A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74A7E-C796-4732-A528-6878CDC0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1270E-34A4-4CF5-B460-EF550AAE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BB9A2-B498-4307-94D7-DE5BE490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E245-0301-45E8-81F3-2B6717D4D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C366-5269-484C-8D18-7FDEAB7BE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17" descr="ascpcolor"/>
          <p:cNvPicPr/>
          <p:nvPr/>
        </p:nvPicPr>
        <p:blipFill>
          <a:blip r:embed="rId2"/>
          <a:stretch/>
        </p:blipFill>
        <p:spPr>
          <a:xfrm>
            <a:off x="6477120" y="0"/>
            <a:ext cx="251460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C062-A4E3-4A64-8878-343B52BF1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4F59-E8B9-464C-A5BE-AEF3629D2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C4EA-D428-4B80-A68C-2716036D5A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36C3-CFAD-482D-B5F8-3EC690815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445C-8BA8-465A-A57E-C1087DFED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4A40-B76E-43A1-B723-C30A8BAE3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5B25-5454-4EB0-9324-5D137123F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E142-2B40-410E-A9EC-ECF3FAA54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E472-7FFC-4988-B270-8B1D5F1237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7BB1-8240-450D-A26F-CB64DF24E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28FF-E69B-4CF3-82E2-0EE2F361ED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6670-0C04-486D-A611-B224E85D9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0" descr="ascpcolor"/>
          <p:cNvPicPr/>
          <p:nvPr/>
        </p:nvPicPr>
        <p:blipFill>
          <a:blip r:embed="rId2"/>
          <a:stretch/>
        </p:blipFill>
        <p:spPr>
          <a:xfrm>
            <a:off x="3886200" y="-152280"/>
            <a:ext cx="4038480" cy="2019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63E7-E284-4F7F-B67D-144CE91F4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A3B5-74CE-4C46-9AB5-95DB15FB6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435B-E55E-4BA9-B2EE-DA8030621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32D0-1709-44A4-8874-AAF42D99A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C119-2188-465C-AC12-6B6ECE6AE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8703-B7DF-4900-B73D-4BCB16C69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306D-6CB7-45F3-BBCA-80B8CA5E6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7624-3E01-47EB-B228-DACCA7E93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DDBF-A733-47D8-8411-E13A2AFE2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B1CC-0987-4195-8009-EDEEA45AF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D104-F64C-4C4B-86FF-9A1382A10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89E4-5606-40B5-981F-D483A1B56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C00A-E1B6-4731-BF53-4304C44B7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6B64-B6A7-4A9C-B5BC-9D238CD73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48DD-B1F4-467E-A1C8-49CC2E614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logy and museum techn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8A44-6F99-4AB9-B4DB-06C72A5D14E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on completion of this chapter, the student will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fine cytopath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t various applications of cytopathological diagn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4. Explain the diagnostic techniques used in cytopa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B290-721E-4430-A4D1-3A4FB4667E0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Cytology and museum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1  introduction to Cyt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 Pathology museum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85E8-327C-40B7-9045-5747EDEE85D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1  introduction to Cytology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68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logy is the scientific study of the structure and function of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involves the examination of samples from asymptomatic individuals to detect  premalignant or early malignant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work involves the assessment of material from patients with established signs or symptoms of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basic premise that the content of a cytology specimen should accurately and reproducibly represent the cell population of the target tissue or l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C7A1-B278-4C49-B397-6CD5F81CD5E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60948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pat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pathology is the study of cells from various body sites to determine the cause or nature of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applications of cytopatholo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for the early detection of asymptomatic canc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is of symptomatic canc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of patients treated for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13E8-22CA-44B2-A74E-31C06473300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t types of cytopathologic method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needle aspiration cytology (FNA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foliative cytolog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sive Cyt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Fine-needle aspiration cytology (FN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NAC, cells are obtained by aspirating from the diseased organ using a very thin needle under negative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ly any organ or tissue can be sampled by Fine-needle aspi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pirated cells are then stained and are studied under the micro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organs (example, breast, lymph node, skin and soft tissue) can be easily aspi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BA8E-5C67-4B70-9B50-A3F79493C7C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533160"/>
            <a:ext cx="8305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organ lesions, such as the lung, liver, pancreas, kidneys and adrenal glands are aspirated with guidance by fluoroscopy or ultra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needle aspiration cytology is cheap and fast in diagnosing many diseases e.g., Tuberculosis, lymphoma and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xfoliative cy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foliative cytology refers to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examination of cells that are shed spontaneously in to body fluids or secre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putum, cerebrospinal fluid (CSF), urine, effusions in body cavities (pleura, pericardium, peritoneum) and vaginal discharge can be used for the diagnosis of cancer cells and cancer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FDE7-D6AF-43FF-AB45-F395DAC22F1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72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Abrasive cy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sive cytology refers to methods by which cells are dislodged by various tools from body surfaces such as skin, mucous membrane, and serous membra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can be used in preparation of samples for cervical smear (Pup smear) for early detection of cancer of theuterine cerv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D436-7D26-4D70-B44F-E87B7F829F5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00:05:08Z</dcterms:created>
  <dc:creator>Fit</dc:creator>
  <dc:description/>
  <dc:language>en-US</dc:language>
  <cp:lastModifiedBy>DMU</cp:lastModifiedBy>
  <cp:lastPrinted>2019-03-17T06:49:50Z</cp:lastPrinted>
  <dcterms:modified xsi:type="dcterms:W3CDTF">2019-03-17T06:51:43Z</dcterms:modified>
  <cp:revision>15</cp:revision>
  <dc:subject/>
  <dc:title>6.Cytology and museum techniques</dc:title>
</cp:coreProperties>
</file>