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F36-1B15-44F5-9274-154812068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9D69-7F43-4AD5-8F91-4D17827760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issue will contain an internal quality control, but appendix, fallopian tube, uterus or small intestine  may be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EB2-651F-430B-B2E1-1E3979E99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EC01-93CC-4AC6-ADA1-9881F9479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090-5CFA-4804-9FFD-50714C41FA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789C-EE41-487E-A480-4EBB00D1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08EA-C480-43B0-9523-97452539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46DA4-702C-4728-BE6B-B8EDA19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E5561-859C-40A1-BF5E-CA9BF280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2F7AC-FF38-4040-A702-C35BC08E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6C155-256C-488F-A2AB-780E2A5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039B0-7D69-4E3B-A977-0EA4BCA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21893-B996-4796-9757-1A25537D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BC22C-B37B-4B9B-9F35-C5DD5600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E83BC-A3C3-4877-A38A-DC9E0969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3A2AF-E532-46D2-9D49-DAE6514C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027BB-AA59-4EF6-8D29-BC08F8B5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98C7-354E-47DE-AE5D-9BB10F83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30246-71F1-4663-8A71-DEDC5C72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CE002-9E61-47A7-B20D-623F535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D9F79-3DD1-4979-A20C-5605A687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C2A74-D059-4C6C-82C8-9F30109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65FC4-EFB7-4B2B-9CBD-3BE15B0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F3313-02CE-46B2-9459-705571F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75275-137F-4F5E-A762-454CFBE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CF894-B16A-49BF-8101-4B6CAF7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78F4C-1D1C-4255-93DE-8080B6B1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CAFE0-9664-49AC-AF16-34006090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BB2F-EB21-4707-86F2-982643F2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6667F-16FF-48D6-BB43-C2AC75B1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CF7580-6563-4384-A38E-8E3DD19A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B8E4EA-F70C-441D-BFE1-0C2F1B68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D6FCDE-FB30-4EA3-8B12-28912EA8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FBF428-F118-4BBF-A0D2-FF6DF8A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91BC65-9F64-4403-8605-B91D0826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64BFF5-EA3B-4D8D-85A1-9676193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AA8F64-A01C-4531-9318-1769BF3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99792-FED4-4994-A953-9A8B5EC4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6C7D9A-B44A-46CD-8B35-D4CCE8F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9165D1-78B0-40DE-A51D-985A695F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1197E1-B4AE-4D5F-9F6C-A48885C4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80A5D9-82C8-4989-BDC7-9020731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3B657-592A-41CC-9C42-7FCC9689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5ADD3-B65E-4E0F-841F-2F462B4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39CE9-F7AB-40BF-8184-D4359EC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47D4C-9742-4E46-8CCE-17BE7CC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6F18B-477B-441B-A24D-B1F6C6CF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5E5DD-07E5-417F-98B1-9FE79B51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AFABD-C18A-42B2-86EB-0CD90F2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9A6D0-C893-42EC-9B36-635F026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60AE2-7ACB-4F3B-852D-9DCB9F8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11A79-B40A-42C9-BE60-2BBE345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F9ABB-2705-4AC8-B0EC-DB957083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4D097-6486-4D74-A906-53DDB9B9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FFDFCB-07D9-4F5C-A644-85E54B61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617630-A40E-40E0-9599-258D7CD7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4BE546-6454-46DF-AD02-CA860816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3EA701-6CC2-48C6-8B04-95E0F0C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ABE80B-168B-49AC-966C-964A2268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6CBB7B-4751-4673-AB96-D70FD726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B69CC8-44D6-4A9C-ABF4-A72EECE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D01D1-2596-47C4-A0F3-2735B47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D119AF-EABC-404D-9685-921F1F2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C3A3DF-380B-4DCD-9A40-BD229F6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B2C241-1631-4247-9A18-A9799F5F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BF7665-2298-48B0-BADE-7A01A5DD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1D4178-DF2F-4E41-BC50-D059327E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27150A-84A3-4C1F-92EA-0730A519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396142-0224-4082-BA35-17C2D712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27CB60-1782-4FA9-92A4-4FD48E9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F9747B-5795-454D-B76E-810471E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44B202-4175-47BF-BC13-8F775724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067A82-A14A-4270-8599-45BC728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C854D0-D123-42CA-B8EF-C38E21A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0EC3F1-3070-484E-AC22-C0864C5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A98247-E4D9-4F34-A905-D2D9AA0B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2EB14C-D5EB-4E27-8A7F-6E26FE1F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52FEA3-C36E-4C74-9690-7296FBCC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D07DC1-D970-4297-97ED-A403E10C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F5AD46-4AD9-48F1-9BD5-F72008BC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3968C3-C747-44BC-9D97-C6BB3C1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38732B-0247-4007-99C7-83FCF9F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AF3FCB-10DA-481A-A42D-39E36EF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341FF8-5CEA-4649-A5D7-8C2E018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FB50D3-775B-4A2E-BB00-2F60588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30B688-91F8-4082-A659-BE7283E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17C543-889E-4384-9C74-6B21C97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FE9EC5-1C13-4B54-93A3-D3746F3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0BC816-12A5-4603-87A7-E4FF613D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8971A5-BB01-4E63-9166-CEBB18F6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C258-65B8-4913-A25B-44ECE98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77972-5E96-4677-9014-E209BAC0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BB5E1-8B57-430E-B408-F6EC0D4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06859-1C47-4A3C-B48B-BBA1516A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C9561-AE99-4988-906C-D12C81A9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7E214-7E97-40D9-93CD-2110AB9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48C9-4F9E-420A-9735-3517B9A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166BF-D502-4AB4-A462-FB3FBA93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D929A-AE01-47D1-BC37-79FF4D9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C08D5-E14F-4799-AA4A-714A9F9A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167AE-B4B5-4909-BD80-9A407C2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065EE-AFC2-48BC-B10F-8424CE9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7B74E-D1DB-44B3-83F0-47EA04AA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C6835-A595-4FF3-800A-CB457FF8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3F0F4-7BF2-4042-AB88-F5571DBD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AD966-6DEB-4A09-8C9A-D79E23E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4DDAA-5136-462C-AC4D-B15E2CDC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D20E-34ED-452F-A242-2942EB4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D5FE4-0E91-49A0-9F8A-EB7515B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84C15-B308-489C-BB49-577EDB98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91504-2259-4397-9F0F-B671770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7D6D3-EC7E-4886-BF34-63746D4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34226-3D8E-486F-A335-279F401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7F58F-DA09-4C7F-B519-C898174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AC80B-5524-4A07-A90F-3D67967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B3E98-583C-4C8E-BBBF-CA5418E9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4F503-233A-41EA-AB5D-25213968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B2688C-B1EA-48E8-BA2F-8AF54A90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384E-B852-4641-A7DB-F3248A83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38DA40-16BA-4D99-94B9-76CC2BE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E7E59-4C59-47F3-9057-6A45B5ED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E14E9-BFF3-4F14-9E51-32A7BE48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3B503A-D988-4749-9AC8-836B185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BDAF1-113B-483E-B407-D93F9C7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C03F6-9134-4DBB-A7C0-CCAAB20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B6BE32-2821-4969-9B95-05E13DEF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A9C0F9-E055-4C66-9649-310C214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977E3-40FD-4749-8730-A530116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4C2FE-A4F3-4372-BFF9-4D62C8E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995C-D10C-4517-984F-5FDAEAD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F7B47-DFD2-4394-83A5-FC534EEE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24041-4E1C-4DD1-8DC5-D5CE3393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2A203-5871-4C8A-93FC-5F08EA2C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C97DC-ADE1-4FEC-8C4A-6CF1BC3E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4EF326-09B0-43F3-9B30-BB278EF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E3112-3426-4FE2-BAC8-26E03E37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1734C4-9DEE-4854-8522-C3BA887B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6037C-B3BB-40B2-A77D-105502C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B3788-7274-43A8-9F75-2EC66EB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74091-5F7E-4AC7-8D79-95BB590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6E6D-D0A6-49E6-B9BE-1B1A4C7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276A1-A246-44AC-8C23-A71D3444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6454E5-D925-4997-878C-B84873C0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65B60A-E992-4D23-92EA-616C47CF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2402FF-740D-499E-8382-096E5EA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5FB7D2-3DE2-4BEE-9301-0ED6FE09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FB045C-F3C9-4D8D-86CE-B2D7ED6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FCBC7-402A-4389-842B-A9E46042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CC24C-3DB6-4297-BBD2-8710A05D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072F49-881B-465B-8B8C-0BCF2D7B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C42FAF-C7EC-4949-946C-413CEDA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EDC7-3C01-44F0-BEEC-7BCE930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FAB125-3354-4042-8669-AED71B7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2D62F-D9DA-418E-8D90-4CEB302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D6E196-51DB-4C4A-AD9E-2A4AFD7E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C1FB31-A7AD-4785-B8DC-7FE260C5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585403-C548-4F05-BC07-BB375439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FDF00A-6C0A-46B5-A2EF-8EBCE700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67F111-E2EA-49A2-9606-157ABAE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670D18-DFCE-4BC1-9E26-B2096FC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13147F-66D9-419A-9B36-F8DBA54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ACED7-E1A7-4203-A7A9-6898AA92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6BA0-EDAB-4D74-B86E-E0EBFE7A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E794E-D1A5-4912-B915-D1BF494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4B048-44B2-4E2D-9FB2-5623CF09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E04583-F7CF-4C83-BE29-CF3D14A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01F0D1-E9E9-4244-99F4-CD946D7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6D0F09-23D7-4C14-9557-D8C79747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599A1-EBCD-4A45-8BE1-4AE31C4A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6A29EF-7315-4F4D-996D-227B9A50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BEC6B-FC00-4946-AB1B-20C192D1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86450-178D-4AEF-837B-8DC7D6AF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9E8B0-19EC-46C3-9CA6-8D034817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3A6-9D40-47DA-9DEA-11B2781AE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2273-4AF3-4A7B-8F43-BF2E81029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17" descr="ascpcolor"/>
          <p:cNvPicPr/>
          <p:nvPr/>
        </p:nvPicPr>
        <p:blipFill>
          <a:blip r:embed="rId2"/>
          <a:stretch/>
        </p:blipFill>
        <p:spPr>
          <a:xfrm>
            <a:off x="6477120" y="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F4C-AE08-4C9D-9D9E-3D3285CBA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F6E2-81A4-4E29-A8EA-9B381BFA3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547E-A760-415F-8997-131A60BC0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BB9D-385A-435F-B4B3-0104D30B7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A52-0728-4B80-8D94-89DF54C69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4DDF-91BF-4445-BA79-FAB9BF21C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DE0E-6D15-4DB9-8BAC-DA4ED29E1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8D6A-D3A9-47AF-9C18-C8128F7BB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79E1-0F85-47EC-B08D-D2ED0BAFB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6D6-241A-4D87-8032-B5F9691A8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B2F0-73C0-4CE4-93D8-C566506BA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128-AA3A-4549-B529-64E0E2239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ascpcolor"/>
          <p:cNvPicPr/>
          <p:nvPr/>
        </p:nvPicPr>
        <p:blipFill>
          <a:blip r:embed="rId2"/>
          <a:stretch/>
        </p:blipFill>
        <p:spPr>
          <a:xfrm>
            <a:off x="3886200" y="-152280"/>
            <a:ext cx="403848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A360-A234-4324-B9ED-E960EEDC8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B595-48D9-4EB1-B6D2-3BFBFBFE8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AB8-17C4-4656-9501-CFF5FD301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7D64-98C7-426C-9175-33E749187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85EF-F3AA-40E7-A59E-954FC9DF6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A516-A2A1-4460-9A27-AFCBF1A2B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384-9BF5-4067-8406-14DADA1FF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35F0-5CCA-4EF1-A100-3422FFEE7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6DC-1170-4D55-9967-E23723836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EB76-73BF-4491-87DD-7A1D22D0A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33B-9B37-4292-8B94-85A032425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F50B-1B6A-4933-BAF2-E8C3E7CD6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D07-C6F3-452E-B314-66CB1A737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E3B-58F5-47B1-BC73-C23F1838B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6F8-7EA0-4914-94A6-5EDBEB502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6848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f2f2f2"/>
                </a:solidFill>
                <a:latin typeface="Arial"/>
              </a:rPr>
              <a:t>5. Special Staining methods 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3500280" y="0"/>
            <a:ext cx="4714920" cy="15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145763"/>
          <p:cNvPicPr/>
          <p:nvPr/>
        </p:nvPicPr>
        <p:blipFill>
          <a:blip r:embed="rId1"/>
          <a:stretch/>
        </p:blipFill>
        <p:spPr>
          <a:xfrm>
            <a:off x="7162920" y="46483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6"/>
          <p:cNvSpPr/>
          <p:nvPr/>
        </p:nvSpPr>
        <p:spPr>
          <a:xfrm>
            <a:off x="4286160" y="4572000"/>
            <a:ext cx="471492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ment membranes are commonly  demonstrated with a silver stain employing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enamine silver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enamine silver methods rely on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 oxidation of carbohydrates within the tiss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aldehyde 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groups will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irectly act to reduce silver 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methenamine silver solution to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metallic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nd silver ions from so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dependent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e silver to a visible metall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entaff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ment membranes may also b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emonstrated using the Periodic Acid-Schiff (PAS)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872-69C3-401D-86F3-B08964F7B85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2860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fiber demonstration is useful to ident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o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eriosclerotic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idence of other vascular diseases, and vessel invasion by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Verhoeff-Van Gieson (VVG)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only used to demonstrate elastic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ssue section is initially over stained with a solu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hematoxylin-ferric chloride-iod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differentiated for optimal demonstra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lastic fi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898D-D4AF-4E1D-BE0F-0B222F4FAD7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erric 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od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link hematoxylin dye molecules to tissu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they act as oxidizers to convert hematoxylin to hema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lute solu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erric 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n used to break the tissue-mordant-dye complex, thereby differentiating structures within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lastic fibers have a strong affinity for the iron -hematoxylin 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y will retain dye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other structures dissociate dy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700-088F-4D77-A92D-4E9BF31F1F3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astic fib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odium thiosulfate rem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iodine and ferric chloride from tissue s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Van Gies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ts as a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counterst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quality control tissues include lung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arenchym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F6F-7A7C-4F72-8E1F-54FF6857933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86680" cy="6400800"/>
          </a:xfrm>
          <a:prstGeom prst="rect">
            <a:avLst/>
          </a:prstGeom>
          <a:ln w="0">
            <a:noFill/>
          </a:ln>
        </p:spPr>
      </p:pic>
      <p:sp>
        <p:nvSpPr>
          <p:cNvPr id="69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027B-D3CF-4422-9C48-8A048973B1D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hoeff solution should be made fresh for each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tiation step is critical to optimal results, as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ver-differentiation results in loss of finer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staining in van Gieson counterstain will continue to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differentiate s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ts picric acid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729-3C15-49CB-B10A-017B28AAA9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28240" y="3805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hrome S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inguish collagen from mus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id in the diagnosis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ibrotic changes, neuromuscular diseases and tumors of muscle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on’s Tri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Masson’s trichrome s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Bouin’s solution is used initially as a mordant to link the dye molecu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tissue components of inter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 are stain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ert’s 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resistant to decolorization by subsequent acidic staining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2B8A-02DE-4160-8541-AC21AF790FD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ebrich-scarlet-acid-fuch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ins all acidophilic tissue elements such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ytoplasm,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treatment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osphomolybdic/phosphotungstic acid serves as a decolo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ausing the Biebrich-scarlet-acid-fuchsin to diffuse out of the collagen fibers while leav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le cells 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of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aniline b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tain the collagen after which, 1% acetic acid is employed to properly differentiate the tissue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AD22-606C-4CE5-9F66-E1ECFA1CDE5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572000"/>
          </a:xfrm>
          <a:prstGeom prst="rect">
            <a:avLst/>
          </a:prstGeom>
          <a:ln w="0">
            <a:noFill/>
          </a:ln>
        </p:spPr>
      </p:pic>
      <p:sp>
        <p:nvSpPr>
          <p:cNvPr id="7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BAE-CC2D-4F60-BF47-523CC0083EF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ble Bouin’s solution used at the correct temperature will ensure optimal st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differentiation by  posphomolybdic/phosphotungstic acid yields proper intensity of red-staining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red staining of muscle may indicate that Biebrich-scarlet-acid-fuchsin solution has 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ty of blue-staining entities is modified by increasing/decreasing incubation time of aniline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d blue staining of connective tissue may indicate over differentiation of section by 1% glacial ace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45AB-4B30-468E-8691-3F773ADE69A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outlin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5.Special Staining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 Connective tissue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 Protein, Nucleic acid and Amy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 Carbohydrates and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 Pigments, Minerals and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5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381B-F6FF-4124-8B92-A2D3168A150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 Protein, nucleic acid and amy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65DA-3348-4F44-8C57-F75300EC20A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ns,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ining of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jor constitutes of cells and tissues, are made up of amino acids linked by peptid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of demonstration of proteins in tissu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stophys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mino acid histochem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histochem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-fluorescent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 histochemical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6E5-2B0B-48B2-9FF1-288C2A875D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phys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physical method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sed on physical configuration of their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on their chemical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thods are based on selective staining with large or small molecule dyes for example,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richrome metho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se technique, proteins present in collagen, fibrin, elastic, reticulin, and amyloid can be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4E1-B2EA-4D9E-A878-312CA65FBCE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5228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: Histochemical reactions in protein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707C-4591-4B04-BC48-D6DB99F4F67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 histochem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 histochemical methods are based upon identification of exposed groupings and linkages within amino acid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staining methods,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ome of the amino acids  in the proteins and not the whole proteins are demons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Amino group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hydrin-Schi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action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neutral pH and 37oC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inhydrin reacts with alpha aminogroups to produce aldehy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aldehyde can then be demonstrated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iff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782C-99D8-47B5-8983-8514E17ADA4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ation sol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utral formal saline or formaldehyde vap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of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section to 70 %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 with Ninhydrin solution at 370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ace the slide in Schiff reagent for 4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unter stain with alum haematoxy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hydrate with graded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Clean in xyl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Mount in DP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group =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tain pinkish p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2DD-29F4-4122-9C08-AC6C33D3B5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eny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up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llon re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yro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tion is treated with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hot mercuric-sulphric-acid nitrate mi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inkish 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develops at the sit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rosine containing 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osine is the only amino acid, which contain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xyphenyl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can be regarded as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pecific for tyros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osine is invariably present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tissue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on reaction is a suitable general protein meth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37F-8B49-4AF9-B3C1-F5D1D2CB628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has a 5-carbon sugar called deoxyribose, and RNA contains a 5-carbon sugar called rib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n these sugars is a single hydroxyl group (OH-), and it is this difference that allows for selective demonstration of DNA and RNA by special 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o most common special staining techn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d for visualizing nucleic acids ar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ul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yl green-pyronin Y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43B-3AD9-47FF-AED4-19B5B0F40FB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ulgen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ulgen stain takes advantage of the ability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to hydroly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hemically alter the deoxyribose sugar of DNA into an 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reacts with Schiff’s reagent, which specifically binds to aldehy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cid hydro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st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what constitutes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eulgen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ght green counter stain is often applied to the tissue section to achiev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better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ibose sugar of 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naffected by this acid hydro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therefor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ill no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87EB-7E22-482A-A8B5-CB44A523490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8560" cy="289584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61A7-75BE-4229-85C3-4BDDEECB826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 Connective tissue staini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AB3-60B0-4BF8-9327-4A66263BEB3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eulgen stain, hydrolysis is the most critical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ydrolysis time is increased, an increasingly stronger reaction can be achieved until an optimal state is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hydrolysis past this optimal state causes the reaction to become weaker and ultimately f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3EF-39BF-45CB-8121-C1B454E8E1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28240" y="4568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yl Green-Pyronin Y 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demonstrat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incubated in a solution of purified methyl green and pyronin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ethyl green preferentially binds to DNA and pyronin Y to 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that two basic dyes bind preferentially is suggested to be related to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ifferent degrees of polymerization observed in DNA and 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more highly polymerized, is bound only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ethyl 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here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less polymerized than DNA, is bou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ly by pyronin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677-1C44-4B3A-B62E-56BC5020637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2860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Carnoy’s fixative yields the best results, though protocols have been modified to allow formalin fixed tissues to be sta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taining, it is imperative that the stained slides are not exposed to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ides should be dehydrated in acetone or tertiary butanol and mounted in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ynthetic re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1D74-3011-49B4-BEC1-75B1D5B0E1F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4431-D241-4131-97EB-8FAB0086F07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 Nucl…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4920" y="4572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ylo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 is an intercellular material that is deposited in various tissues such as heart, muscle, skin, liver, spleen, kidneys and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amyloidosis can be classified based either on the underlying cause or by pattern of amyloi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osis may be associ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enetic predisposition, chronic inflammatory diseases, tumors or Alzheimer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progression of the amyloidosis can be halted through treatment of the underlying condition, so early diagnosis is extremel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0302-AE56-492B-A647-6B92EA2533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Congo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o red is a dye with a selective affinity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yloi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lieved that the linear shape of the molecule is responsible for its ability to bi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β -pleated sheet structure of the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ding is thought to be throug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on-polar hydrogen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ining methods used favor the formation of these bonds over electrochemical bonds that may bind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ongo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ther tissue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F58-9263-4968-8830-C4EF2C6830F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Nuc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51920" y="4572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gh p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gh sod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ining solution favors selective binding of the dye and the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ding arrangement between the dye and the amyloid produces a unique effec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e-green birefrin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the stained tissue is observed with polarized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presence of apple-green birefringence has become the most reliable diagnostic feature of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the counterstain of choice for the Congo red 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F8FE-C432-4C30-8B1F-3AC3337F9A0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 deposits are formed in tissues spontaneously or in association with a wide range of disease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osits are intercellular and may become large enough to cause damage to surrounding t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type of underlying disease, amyl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s may form in muscle, heart, skin, tongue, liver, spleen, kidneys or adre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5EE-0453-4FF4-BBA6-4A7AA255CE5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7800" cy="571500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8620-041A-44B3-B557-F58AC40497E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76520" y="28195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 Carbohydrates and Lipid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6637-0DAA-48EA-8B30-D7E0EE89235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ve tissu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types of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connective tissue matrix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ted with glyco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orm a delicate framework for many soft organs and a network around nerve fibers, fat cells, lymph nodes and smooth and skeletal muscle fi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genous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collagen and provid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eatest strength of the three fiber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genous fibers are foun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gaments, tendons, cartil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CA3C-1BA8-4969-840D-3D9499E7462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0492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are widely distributed in both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often referred to as “starches” or “sugars” but can be divided into numerous subtypes based on their che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years, diverse terminology has been used to describe and classify tissue carbohyd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urposes of this chapter related to the staining of tissue carbohydrates, two main entities will be considered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yc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so known as mucosubsta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343400" y="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bohydrates and  …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ADD-3CB1-46D3-89C9-C9909E2665E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2824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gen is a simple polysaccharide that is widely distributed throughout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found in greatest amounts in the liver, hair follicles, endometrial glands, vaginal and ectocervical epithelium, and cardiac and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gen may have diagnostic significance in several types of tumors including carcinoma, mesothelioma and rhabdomyosarc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glycogen distribution patterns may be disrupted in diseases caused by carbohydrate metabolism enzyme deficiencies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von Gierke’s dis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ompe’s disease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49528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hydrates and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7C68-4F45-4875-9E22-48D2BCE7454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 Acid-Schiff (P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 reaction demonstrate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grou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by the oxidation of certain tissue carbohydrates and glyc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xidation of the tissue sections is performed using period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oxidation, tissue sections are tre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chiff reagent, a colorless mixture of basic fuchsin, HCl and sodium metabisulf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incubation, basic fuchsin binds to the newly formed aldehyde groups in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DE7-B525-4463-AFFF-044937187AF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unterstains may then be used to visualize other tissu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taining is very commonly used to demonstrate cell nuclei, although other counterstains may also b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lder methods include treating the sections in a sulfurous rinse solution before the running water w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serve to reduce background staining by removing excess Schiff reagent from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465E-7007-4045-BB74-D36A1372248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04920" y="380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ly used to evaluat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lycogen deposits in the l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um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bladder, kidney, liver, ovary, pancreas and lung may also contain glycogen granules of diagnostic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ities of the basement membranes revealed by PAS staining can aid in the diagnosis of several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he basement membranes can also be used to measure the invasiveness of skin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E474-7BDA-423A-95F4-4ED14417EB1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78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8B21-36A7-462B-B3FB-25B025EB6C2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family of polypept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ecreted by a variety of epithelial and connective tissu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fication of mucins is complex but can, for purposes here, be simply divided int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cid muc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ucins are produced by many tum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 carcinoma, liposarcoma and mesotheli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systemic production of mucins is also found in diseases caused by enzyme deficiencies (Hurler disease, Schele disease, Hunter dise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3CE7-2B8A-4B5B-AC68-262E0BBAC51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4920" y="5335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Mucicarmine 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cicarmine stain contains carmine (a red dye) bound in solution to alumin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lieved that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uminum acts as a mord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binding to the acid groups of the mu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inding causes the carmine dye, which is carried along with the aluminum, to impart a deep pink or red color to the mu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nuclei are usually stained with hematoxylin and the remaining tissue elements are counterstained with metanil y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A4F-E7CE-4D2D-92F0-F1C75349E1E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5335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icarmine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sed to demonstrate acidic mucins secreted by cells of epithelial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sed to stain the capsule of the 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Cryptococcus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763120" cy="3505320"/>
          </a:xfrm>
          <a:prstGeom prst="rect">
            <a:avLst/>
          </a:prstGeom>
          <a:ln w="0">
            <a:noFill/>
          </a:ln>
        </p:spPr>
      </p:pic>
      <p:sp>
        <p:nvSpPr>
          <p:cNvPr id="7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077-9DE6-4987-BA6D-401F5F58EBF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ian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ian blue is a water soluble dye t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erives its blue color from the copper in the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asic dye and, therefore, has an affinity for tissue elements containing anionic groups suc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s acid mucins and other acidic carbohydrate mo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218F-FEAA-4EFA-AC69-927FC32C3F9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4920" y="3805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elastin and offer the greatest flexibility among the fiber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fibers allow tissue to stretch and are 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lls of blood vess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perform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port 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ody and are common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ver, kidne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l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rhotic liver shows disturbed patterns of reticular fibers, explaining the routine use of reticular stains in liver biopsy specim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39FE-C7DF-4653-8382-21A11A13061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ian blue is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acid mucins, which can be produced by several types of epithelial and connective tissue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mucins also play a role in collagen diseases and 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early stages of athero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satility of alcian blue staining methods is a valuable tool for the evaluation of the various acid muc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71D4-E4A9-4845-ADEB-5FE1FE88BB5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99320" cy="579132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743-5890-4799-99D5-45DF8C362A0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3805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re classified as simple, compound and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occur in cells either as microscopic droplets or bound to other tissu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ing of simple lipids with Sudan and oil red O dyes will be discussed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deposition of fat may develop because of injury and from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 embol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y dislodge, relocate and cause loss of function or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6CF-F3B5-45EE-8E3F-77F17D715ED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28600" y="3805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sarc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differentiated from other tumor types using lipid-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ive changes 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yelin and cell membranes may exude fat dropl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monstrated by these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imple lipids are demonstrated using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oil red 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nd Sudan black B st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se “staining” techniques demonstrate physical processes rather than chemical interactions displayed by most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ye (oil red O or Sudan black B) is dissolved in a lipid solvent such as propylene gly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70F-7442-4628-ABB8-A31A11DE6FF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088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at solvents, such as isopropanol, may be used, but result in some lipid lo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e molecules are found to be more soluble in the cellular lipid than in the dye solvent imparting a positive stain color to the tissue lip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then stained with an appropriate counterstain (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/nuclear fast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2E65-09D4-4C0E-8E4E-58CC0712154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2666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" descr=""/>
          <p:cNvPicPr/>
          <p:nvPr/>
        </p:nvPicPr>
        <p:blipFill>
          <a:blip r:embed="rId2"/>
          <a:stretch/>
        </p:blipFill>
        <p:spPr>
          <a:xfrm>
            <a:off x="457200" y="3568680"/>
            <a:ext cx="8381880" cy="329724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EC5-989A-4248-BA0C-60E45E48E1B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 Pigments, Minerals an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230-8E9D-4AB5-9B4F-39140E4EECA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371600" y="284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gments and Minerals</a:t>
            </a: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g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s play an important part in the diagnosis of diseases and conditions such as gout, kidney and gallbladder stones, jaundice, melanomas, Albinism, hemorrhage and tubercul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either normal or patholog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igments are identified either by their color, size and shape or by chemical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s can be separated into three categories: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rtifact, exo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ndo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8CE1-7A83-4739-AF33-97D4EEA88F1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153280" cy="4038480"/>
          </a:xfrm>
          <a:prstGeom prst="rect">
            <a:avLst/>
          </a:prstGeom>
          <a:ln w="0">
            <a:noFill/>
          </a:ln>
        </p:spPr>
      </p:pic>
      <p:sp>
        <p:nvSpPr>
          <p:cNvPr id="82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AB4-D9DF-4715-BBB9-A1BD365A6FE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4560" y="380880"/>
            <a:ext cx="83055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ogenous pigments are described in this chap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recognized pigment is melan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, a brown or black pigment derived from metabolism and not directly associated with blood, is normally found in skin cells (melanocytes), hair follicles, eyes (iris) and areas of the embryonic br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ribution and amount of melanin is what accounts for the wide varie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kin, h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ye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lanin is found in conditions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lignant melan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ADA-E5C4-47CA-8854-7313E512A9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lso display characteristic patterns in tumors, thereby aiding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n the differential diagnosis of certain  tumor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re commonly demonstrated by the use of stains involv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lver solu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ains rely o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egnation of silver ions to th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seque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tion of those silver ions to their visible metallic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re agyrophilic  in that they possess the abilit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sorb silver from so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re unable to reduce it to visible metallic form without the use of a reducing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91C-272C-41C4-A2F4-E4DC0557B41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28240" y="4568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 possesses the strang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ability to bind silver from silver solutions and reduce it directly to metallic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almost completely insoluble in organic solvents because of it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ight bond with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pecial staining techn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elanin are varied in approach and can be simple or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morl’s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imple technique that uses melanin to reduce ferric iron (Fe3+) to ferrous iron (Fe2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822C-C9B1-4AC9-8ABA-AC942DD0BE2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5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rrous iron then combines with ferricyanide to form ferrous ferricyanide, also known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urnbull’s b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 techniques use silver nitrate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ntana-Masson method for melanin and the Warthin-Starry method for melanin are two such meth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step is application of nuclear fast red counter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1C05-4198-4133-986E-B6FB2F5C9F5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all the special staining techniques  for melanin, this reaction is not melanin-specific and may stain other elements,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gentaffin, chromaff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286480" cy="4114800"/>
          </a:xfrm>
          <a:prstGeom prst="rect">
            <a:avLst/>
          </a:prstGeom>
          <a:ln w="0">
            <a:noFill/>
          </a:ln>
        </p:spPr>
      </p:pic>
      <p:sp>
        <p:nvSpPr>
          <p:cNvPr id="8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D77-43E8-47E6-BDD7-0CFEB8107ED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mosid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siderin,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blood-derived pi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crystalline aggregate of proteins involved in iron sto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pathological conditions involv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sid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rrh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lytic anemia, metabolic iron disturbances, liver fibrosis, toxins, cirrhosis,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nd diabetes melli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ing yellow to golden brown in unstained tissu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siderin is insoluble in alkalis and soluble in strong acid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091-591F-462A-BB9A-E81CDDC9D45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ation in formalin alters hemosiderin so that it can be solubilized slowly in weak ac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llor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erl’s methods for i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ferric ion in tissue binds with ferrocyanide in solution forming ferric ferrocyanide, otherwise known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russian 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ferric iron in hemoglobin is tightly bound to proteins, it is first necessary to use acid to release it from the protein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 hydrochloric acid (releasing solution) and potassium ferrocyanide (binding solution) is abl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in the ferric ir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uclear fast red is the typical counterstain for these sta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F170-A518-4F94-ADAA-1BF65C14823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64520" cy="2438640"/>
          </a:xfrm>
          <a:prstGeom prst="rect">
            <a:avLst/>
          </a:prstGeom>
          <a:ln w="0">
            <a:noFill/>
          </a:ln>
        </p:spPr>
      </p:pic>
      <p:sp>
        <p:nvSpPr>
          <p:cNvPr id="84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F40-8CDE-48E7-A0C4-68C69D73D3F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ofus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ofuscin,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yellow-br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eddish-brown pi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found in many parts of the body includ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bone marrow, adrenal, kidney, liver, heart, testis, ovary, cervix, brain and spinal 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 is formed by the slow oxidation of lipids and lipo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been nicknamed 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“wear-and-tear” pig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arge accumulations of lipofuscin are found in people of advanced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dentified using special staining techniques, lipofuscin can be found in a variety of colors, shapes and si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A13-50B4-47ED-8A18-E5DC7C3D6C1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52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properties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 are dependent upon the length of time that the original lipid or lipoprotein has  undergone oxi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ore than one special staining technique be performed to confirm the presence of lipofus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lipofuscin is present in some lipid storage dis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n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, and can be found at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dges of cerebral hemorrhage or infar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pecial staining techniques for lipofuscin include oil red O, Sudan black B, Gomori’s aldehyde fuchsin , methyl green basophilia, periodic acid-Schiff and Fontana-Mas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A253-42DD-46DE-81C5-93771E0B1DA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96080" cy="304776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90E-670B-4194-91AE-898202F3B1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5331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c acid metabolism creates uric acid, which is normally excr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te is the form of uric acid that circulates in the  blood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lized urate is in the form of monosodium u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crystalline urate is characteristically yellow but can vary from colorless to brown, depending on the thickness of the crys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crystallization or increased urate in the blood predisposes a patient to g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or kidney function, kidney stones and arthrit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0795-7F88-498D-A833-C971A1CE494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2860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lective silver precipitation on tissue sections may be caused by use of improperly cleaned glass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solution should be made fresh with high quality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 ammonium hydroxide added to ammonical silver solution impairs impregnation of reticular fibers and results in weak st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nity of silver solution may contribute to loss of tissue section from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charged or adhesive-coated slides is recomm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606-44A9-469C-8C01-1DCA34F79D8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088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diseases,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eukemia, urates can ultimately be deposited in the kidne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s because an extremely high number of cells are destroyed, resulting in nucleic acid metabolism and generation of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issue, uric acid crystals are present as sodium urate, which is soluble in aqueous solutions and slightly soluble in weak alcoholic solu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fixative of choice is 95% alcohol, which prevents the dissolution of the u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urate crystals can be visualized on a hematoxylin &amp; eosin (H&amp;E) stained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CEAE-8C3A-4AB3-8A2D-013FCDC5102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52280" y="5331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ates will demonstrate a negative yellow or blue birefringence, based on the alignment of the urate crys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staining techniqu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omori’s methenamine-silver method, can also be used to identify urate crystals in tissue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placed into a methenamine-silver sol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rates, like melanin, can bind silver from silver solutions and reduce it directly to metallic sil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ducing the silver, sodium thiosulfate is used to remove the unreduced silver from the tissue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tion is then counterstained with light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537-7DDD-4DA9-A225-2ADDC56058A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35053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note that an alcoholic fixative must be used in order to preserve the u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88200" cy="2590920"/>
          </a:xfrm>
          <a:prstGeom prst="rect">
            <a:avLst/>
          </a:prstGeom>
          <a:ln w="0">
            <a:noFill/>
          </a:ln>
        </p:spPr>
      </p:pic>
      <p:sp>
        <p:nvSpPr>
          <p:cNvPr id="87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DC3-6853-44A1-8B7C-5A63914BD97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880" y="5331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ste product of Red cell  degradation is  biliverd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verdin is transported to the liver, where is it further reduced to bilirub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rubin is then removed from circulation in the blood and is secreted as a component of 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verdin and bilirubin are considered bile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e pigments can vary in color from yellowish-brown to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excess bile pigment is seen in patients with gallstones, sepsis, liver degeneration, congenital liver enzyme disorders and liver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ED0-9EC3-428D-B971-6091501736A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most reliable and reproducible special staining technique for demonstrating bile pigments is Hall’s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echnique bilirubin is easily oxidized to biliverdin in a solution of ferric chloride and trichlorace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tissue section is then counterstained with Van Gieson’s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ly bile and bile pigments in the liver are detected using this special staining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bile pigments in other locations outside the liver, such as hemorrhage, either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melin technique or Stein’s stain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1CFF-7698-443A-A3CD-1825DF04116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0492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s of bile pigments are lost during routine tissue processing and staining because of their slight solubility in organic sol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eposits of bile pigments, however, can resist these processing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hat two control sections should be processed with the test s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5768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2E7-9045-4147-B41D-7B50081D300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ment and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is an insoluble mineral that is part of the normal composition of bones, teeth and n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ne of the most important minerals used by the human body, participating in such vital functions as blood clotting, neuronal signaling, muscle response and heart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alcium deficiency cannot be identified using special 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normal deposits of calcium can be found associ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crotic tissue areas in cases of tuberculosis, atherosclerosis, kidney calcinosis, sarcoidosis, hyperparathyroidism and kidney s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C9B5-7F96-4159-84DD-F3D5F6E7FC9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ments and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wo well-known special staining techniques for demonstrating calcium depos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Kossa and Alizarin red 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n Kossa calcium stain is an indirect method for identifying calcium in t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calcium salts in tissue are calcium phosphate and calcium carbon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echnique, silver is substituted for calcium and is then reduced to metallic silver with sun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stain of choice for identification of calcium is the alizarin red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s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EC66-88EA-43DC-ACE9-679851DF7BF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6840" y="3276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ining technique, the reaction must be monitored microscopically to ensure that diffusion artifact does not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issues preserved in non-acidic fixatives ar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best for demonstrating calcium depos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137440" cy="2971800"/>
          </a:xfrm>
          <a:prstGeom prst="rect">
            <a:avLst/>
          </a:prstGeom>
          <a:ln w="0">
            <a:noFill/>
          </a:ln>
        </p:spPr>
      </p:pic>
      <p:sp>
        <p:nvSpPr>
          <p:cNvPr id="89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991A-3EB3-48B6-8F37-9178847A541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5 Microorganism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6E86-94B0-4273-B1B6-5C39CDB727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7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B770-6935-4401-B154-56F8E29EC4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org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infective microorganism can be done in histologic examination though rarely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of difficulty in demonstrating microorag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fective microorganisms are too small to be seen in ligh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many large organisms are not distinctive by 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imes the number of the microoraganisms are few that even in special stain can be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ACF2-FA10-48A4-8D29-BFBC97AC271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necropsy specimen over growth of non important organisms can obscure important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these difficulties an experienced pathologist can make a diagnosis of infection by correlating clinical and morphololigc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’s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hl-Neelson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stain (for spirochetes and fun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emsa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F5C6-B2D9-4A4A-B1FB-B5753EA714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ment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ement membrane is a modified connective tissue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vides support to epithelial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ipheral n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mits diffusion of nutrients and wastes between cells and capillaries in underlying connectiv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enamine silver s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cellent for the demonstration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omer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ubular basement membranes of kidney biops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outinely used as a component of kidney biopsy panels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o demonstrate evidence of rena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9598-213B-4DF9-9B98-588C57452C0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43:23Z</dcterms:created>
  <dc:creator>Fit</dc:creator>
  <dc:description/>
  <dc:language>en-US</dc:language>
  <cp:lastModifiedBy>DMU</cp:lastModifiedBy>
  <dcterms:modified xsi:type="dcterms:W3CDTF">2019-06-18T19:11:44Z</dcterms:modified>
  <cp:revision>104</cp:revision>
  <dc:subject/>
  <dc:title>CHAPTER 4  4.Special Staining methods</dc:title>
</cp:coreProperties>
</file>