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DF1-1890-4FB7-9DA6-8A0064DB1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ED6-F183-444D-82ED-6A2C83A4A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3BC-9E2B-4EC6-A2D3-7773BC049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5EF-5A3D-4A65-AB40-A7904CD84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40E-5530-4CC3-842D-B47E55DD2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B6F3-BA5A-4B9A-93E0-71ECC639A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04BE-23EC-443C-A397-D848658AD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7DE-2F2A-419D-AC64-A8384208A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09CB-38EA-4E9D-8C14-A79DC6059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818-5009-4681-A5A3-E7FBF00EE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4B1-A139-4C99-B45B-5633E9CFF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81C-4292-4466-A3F5-2DD885FF0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5F5-6425-442C-93AE-CF0FC1480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783-61B0-40F0-8B51-E86BF5A0C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2EBB-420A-4C2D-99AD-80C332169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14E-09FC-4BC6-90FE-087518AEA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6320-2905-4945-B910-4B0CC60CB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15D-4B8B-40AE-AEED-DA85BF8D2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1FE0-6077-4F75-8133-C545F2E32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06F2-14E7-455F-93ED-07845DDD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668-AD05-4730-AB65-FDF09EE15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1F17-36FF-4DA2-AB7D-49533A55D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73E-E9D4-479C-80A9-8980FEB6A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F748-1F2E-4F99-AC09-7FB696F94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F26A-BCC6-403B-8578-35FAB3F22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6D7-0A67-4895-B7C5-D0A7091D5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E8FF-6434-4684-922C-935A228DE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47F-35B7-4AE5-AA6C-213A0AB9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A89-34BA-42F7-81A3-A4E5B09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D66-386A-4982-8CE3-BE51E455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8D0-B00E-44C1-9EF8-808AD032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F3A-589F-4A56-B5C8-AADDEA87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D7A0-34F5-4704-99BD-D0327A88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9205-BDC1-4232-AFFB-F7BB0F4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9C1-CD31-4889-842D-A203EE16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F003-5863-401C-B189-32C8B26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51E1-9C2E-4FEE-9FC7-32DEA18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4F83-F661-463D-B206-80DACF5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A66-CFA0-4CEB-B933-39FEFE9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8648-F4D5-45FA-BEFF-B85D41C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0B7-EED2-4F2C-895B-741D4BB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CE39-A307-4E1E-866A-80438BC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CDE8-A325-46D6-BE8F-DF0FFA63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61A-8BBD-4E1D-90B2-3FE8678A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2032-FCA2-4C3E-8D08-87569B55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4048-FD87-4531-A1D6-F96B2713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50F7-A3AD-4AEE-9090-2F358E2E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8410-2FAF-48D3-9851-26C66105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2778-6ED3-4ED9-9C73-10C682D7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F98-35D6-487D-858A-8948C2A4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41D9-3B87-4B49-A745-E3265C7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9572-B5C3-451E-BFDC-B90B43A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67FA-7D1F-40D2-8FFC-2295813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159C-18A0-4FAF-993A-C4884DB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9C0F-A505-492C-BB06-2815C34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C5B4-34FE-4277-9602-3436F843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FB6F-1274-4E21-A9B3-6BA63972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BC99-A6D2-4046-8D3D-7CF6A56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1C86-DFA4-4BFD-998D-882455BC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751C-1D6C-462C-9E5A-B367ECE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0C9-A0BA-4891-ADC0-4E4A9B07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A37F-3C8D-4C9D-B788-E3C7FFDF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9F7D-001D-4177-841E-2136245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DE9BE-5F5D-4D90-B957-086C75F0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B832-BBFD-4516-B7CD-3BD7202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0232-04E3-4E60-ADA2-0B19EF4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6488-4685-4E91-B459-A8DBAB4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B22C-01E7-431F-9BDD-A145B7A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043F2-BDDE-45EF-870F-93BD76C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7ABC-5C8F-4E92-ACE5-79435176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D0527-E8DA-47E3-BE16-DD61B64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DBB-1715-4D44-AE57-4AAB39BC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EE4C4-CA7B-48D8-AC52-07F18F4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55C79-9AE5-4E61-8060-4F16DFEB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3A170-B0D0-4674-86DC-FEAB96E2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6A038-9E5C-4F93-A6DE-4DA56CAD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E2BB1-AF75-4A80-B7E8-65D6F042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04B5B-A514-41E1-944E-48FF94D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3C84D-830C-48FF-83FB-0FD5630F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87A78-CEA3-425D-8F2C-4323250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CFBCD-7954-4EC6-826B-9CA4B48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E5C73-4AB6-47D9-BD52-0A026E50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C43-FE50-4995-9110-9CDFA2E8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2D40E-44ED-43AF-8FA3-95B2B146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173-643D-4ACA-9874-C28E109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685-A9C9-4631-8A85-22BB754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8DF-1682-4C3E-97B9-C1CC17DF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7094-ED2D-4AFE-A7F7-6CDB2D791C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EF6A-124B-4459-A129-6F316131BDD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1DF3-F095-422F-A947-729AC4124A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948E-52DE-45BB-A30B-0517501A5C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B9D4-5E4F-4069-B01F-055AE89D97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265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Log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low the tool bar is the Log wind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you run a SAS program, a listing of the program is printed in this window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lists all the contents of all the programs in order you have submitted for exec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ails concerning the running of the program are printed here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.g. how much time it too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f the program doesn’t work, SAS prints messages along with the program that indicate where it found erro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G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indow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lists error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&amp;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warning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ing from your last program submis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g window should always be examined after running a SAS progr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04920" y="4381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Program Editor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13336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Once SAS is started, by default the cursor will be located at th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here that </a:t>
            </a: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the various commands that make up a SAS program are typ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where you type in your programs, or recall previously written program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also where you submit your programs for execution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a SAS program is typed &amp; edited into the Program Editor window it is ready to be submitted for exec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304920" y="29700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the program runs successfully then the output from the program will appear in the Output wind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Output window use the menu command Window &amp; click on output or clink on output window at the window bar which is found at the bottom of the scree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window lists the output resulting from execution of your programs. It contains printable results, if any exists, from the SAS procedures you ra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ice that you can toggle between windows by using Window menu from the menu b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Function key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other important SAS Application window is the KEYS window, which contains the function key  in th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 acces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keys press 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F9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the following default settings will be display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762120" y="439560"/>
            <a:ext cx="746748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50292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Results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esults window is structured in such a way that its outputs from program are organized into folders, sub folders, and items within each subfolder for each specific SAS procedure outp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SAS output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Results tab in the SAS workspace window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the plus sign to expand to sub folder &amp; item of your choice 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uble click on an output line of your choice also gives you the same resul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9b74b"/>
                </a:solidFill>
                <a:latin typeface="Calibri"/>
              </a:rPr>
              <a:t>SAS: Statistical Analysis System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AS System is an information delivery system that transforms data into information for better decision-mak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AS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nables you to access &amp; manage your data. For example, you ca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ead, transform, format &amp; combine dat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You can also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odify valu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reate vari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SAS, you us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statement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o write a series of instructions called a SAS program.  The programs are written using the SAS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AS workplace enables you to write &amp; edit SAS programs, as well as manage your data &amp;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518148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Explorer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window which contains a number of SAS reserved &amp; your own libraries which contain SAS data sets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emporari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ermanent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SAS enviro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Exit 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617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exit SAS you can simply click on the close window symbol in the upper right-hand corner of the Display Manager wind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then asked if you really want to terminate your SAS sess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respond by clicking OK, then the Display Manager window closes &amp; the SAS session en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course, any programs, logs, or output produced during the SAS session are lost unless they have been sav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Ending your interactive SAS sess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can end your interactive SAS session using several methods, inclu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upper right corner of the main SAS wind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sue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Y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S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mand on the SAS command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i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file pull-down menu in the main SAS window menu b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 + F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b74b"/>
                </a:solidFill>
                <a:latin typeface="Calibri"/>
              </a:rPr>
              <a:t>Submitting SAS Programs for exec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AS program typed into the Program Editor window is submitted for processing b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elect part of the program you want to submit for execution &amp; then do one of the follow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Submit button from the tool bar (submit icon--        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se submit from the run menu on the menu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 short cut key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F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submit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command ba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 click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right ma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3808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Clearing the window and filenam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lear a SAS window of its contents, do one of the following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RTL + 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dit &gt; Clear 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command bar and press En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ht click on the window whose content you wont to clear &amp; select clear all from the edit men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Getting Help from the command b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get help for SAS language elements &amp; SAS products by using the HELP command in the command b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you enter the HELP command, the SAS system help displays help for either the active window or for the type of help you specify in the HELP command argu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9b74b"/>
                </a:solidFill>
                <a:uFillTx/>
                <a:latin typeface="Calibri"/>
              </a:rPr>
              <a:t>Accessing S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Double click on the SAS icon      on the deskto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Start -Run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, fill in the dialog box that pops up with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"C:\Program Files\SAS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Institute\SAS\V9\sas.exe"</a:t>
            </a:r>
            <a:r>
              <a:rPr b="0" lang="en-US" sz="2400" spc="-1" strike="noStrike">
                <a:solidFill>
                  <a:srgbClr val="0000cc"/>
                </a:solidFill>
                <a:latin typeface="Constantia"/>
              </a:rPr>
              <a:t>and hit Enter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Click on: Start </a:t>
            </a:r>
            <a:r>
              <a:rPr b="1" i="1" lang="en-US" sz="2800" spc="-1" strike="noStrike">
                <a:solidFill>
                  <a:srgbClr val="0000cc"/>
                </a:solidFill>
                <a:latin typeface="Constantia"/>
              </a:rPr>
              <a:t>- 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all programs-the SAS system-the SAS system for windows V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either case, once you have invoked SAS, the Display Manager window (SAS work space) shown in Figure below should be displayed on your scre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5238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90720" y="930240"/>
            <a:ext cx="739116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9" name="Line 5"/>
          <p:cNvSpPr/>
          <p:nvPr/>
        </p:nvSpPr>
        <p:spPr>
          <a:xfrm>
            <a:off x="2362320" y="37339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209680" y="32004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362320" y="4038480"/>
            <a:ext cx="285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op line of the Display Manager window is called the menu bar. It contains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Run, Solutions, Window,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Program Editor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Solutions Window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Log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window is made active by clicking on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pper border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active window is dark bl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that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inactive window is gra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ft-clicking any of the commands in the menu bar produces a drop-down l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ow the menu bar is a small window called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commanded ba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ext can be typed &amp; a row of buttons called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ool ba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uttons in the tool bar correspond to frequently used commands that can also be accessed from the drop-down lists in the menu b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 initial scre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1044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you start first SAS, by defaul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windows are the only two windows visib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y are split evenly so tha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upper half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lower half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380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output window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s also open &amp; is positioned behind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LOG &amp;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window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other two important windows open and placed behind the output window ar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explorer &amp; result window.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Currently selected windows are called ACTIVE &amp; they appear in the foreground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19-01-17T19:52:36Z</dcterms:modified>
  <cp:revision>39</cp:revision>
  <dc:subject/>
  <dc:title>Topics to be covered</dc:title>
</cp:coreProperties>
</file>