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E1CF-7C22-40BE-879A-8E7C72872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022-019F-4A97-A5F8-3A1DAEA9E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E458-2F7C-49C2-9949-994238A81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564A-6629-4250-936E-ABF61D73E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84C-B189-4A5D-BEDC-B53B5D60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63D-18C9-4D62-AD07-9BDF015F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981-77FC-4B61-93FB-60B48FFC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DCF-5885-450B-99A2-D55AA0B9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BF46-CDD2-4F03-A7CD-4A9A1A3B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649A-8DC0-404E-BB7D-610D06D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83B7-B677-4040-8E92-7E3E76FF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F73B-ED2F-4B00-8C35-2D7383B8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2025-904F-4099-A29F-C7FB623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063D-DFF4-433E-835B-FCE43133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DBF6-BB5A-4C18-9ADC-BE1CB22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B3D-9B2E-4852-B190-768082FB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0F4F-CB7B-46AF-9DB7-F55B27C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23B-BAF8-480A-94F4-7B9030D3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47BB-9B8B-416D-BE6E-792CEB26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6516-1CF1-46C8-8C03-BDA0464F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53D4-694A-4839-9E88-295CB703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B126-ED18-492E-9B0A-0E7E2333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D1EF-C88B-441E-B5A9-532A6195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E8A8F-C1EF-417C-A33C-A4AE5FD5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241C-AD38-406B-BB23-93FC058C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16F2-A497-4E6F-BBBF-BF841E3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952-E3AA-4324-AD57-1A640CF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3178-A37D-4C48-9D26-F652AA9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A398-57A9-47E4-9775-7DBD1628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0DDA-436D-43B9-9F37-34C2B57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666E-B16A-4150-87F0-DF21AF7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B73F-55D1-4A64-8845-28A52300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1154-FDB0-405C-B41C-0AFF6B4F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5D9D-A530-4982-A0FC-91B8EF9B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6DBA-54F1-46BB-A9D5-7BBD8AAF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B602-47F6-418E-9405-C64C484B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C4F4-8B0C-486B-BFB3-314F2818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42E-56FE-46BC-B132-283BFB3E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42DE-DA0B-4421-B85D-AA89ABFA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CB16-9E6B-4CD7-8BFA-D5D43CF5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80A0-30F1-4AB1-916C-66C041B9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BCC5-9F72-4E40-8643-26246AAF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D3FA-28D5-4AF4-85A0-AD5AC007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42B5-DFB8-4948-AB79-89964A4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F9CA-F009-4BD4-85C3-10D29E72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7E7E-ED8E-47B3-A829-C2F96CBF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2607-64B5-422B-BC3B-948EDAF8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804F-8376-4189-95D0-DE54D52D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82F-CBB2-4503-B669-2896878F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96E9B-CEF4-4A16-A86F-A13882E7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5DA0-47D3-4863-8D59-BE255D91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FFAC-B9B4-48AD-A6D9-D3258F33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F6A2-79B1-4B22-A953-FAB0C08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7B9C-8C65-484A-AA28-5D8E16E9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B1A6-7A97-4181-8346-31EB5CC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7217-FBF1-4CDC-9591-F6AC98BA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8215-EE04-4229-ADDC-8C77FBC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59F1-EB36-4C03-8A95-9ED92901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78DF-423B-422A-B0D0-C45DBFB0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8E1-50E9-465A-BF38-09081AE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C050-716A-4DBA-B65F-8CC35C6A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90C-12FF-40E1-A58C-8303343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64F-32DA-4821-98BC-D1DF313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6EA-4EE7-4CB6-94F9-091135F6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7858-05E9-4FE4-8F32-C9253FC754F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D8D2-3153-49BF-AD62-78375574EA1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B813-C48D-452B-994A-A5664454E3D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22B-FBB6-4489-949A-5DD84846CA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D6C2-860D-490A-B538-2E7E02DD118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A23-8657-42FC-BA2F-DC6ADA432E9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C13-DF90-4343-A689-2BA5E1CFF42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A905-D7AC-4D88-8937-B68DE31CB3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078-CC61-44C3-9DD7-D7768843849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F06B-8F78-4AED-BABE-C335CE7171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5936-C12E-42B7-9752-0A641648CCA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2860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troduction  To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some statistical term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Definition of Statistics and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Arial"/>
              </a:rPr>
              <a:t>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ience or a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 collecting, organizing, analyzing and drawing conclusion of numeric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it is the prerequisi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nowledge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for Biome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wo types of statisti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Descriptive statistics:-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s the statistics that is used in measuring, collecting, organizing, summarizing and description of mas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statistical method which is concern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a set of data but which do not involve genera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rawing conclusions.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These are measures of central tendency such as mean, median, mo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E6F-963B-4D51-907E-6B0F063E570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09480" y="460800"/>
            <a:ext cx="7696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Methods used in probability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1. Simple random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rcRect l="0" t="25313" r="0" b="3445"/>
          <a:stretch/>
        </p:blipFill>
        <p:spPr>
          <a:xfrm>
            <a:off x="838080" y="1447920"/>
            <a:ext cx="7696440" cy="29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38080" y="4495680"/>
          <a:ext cx="7925040" cy="1737000"/>
        </p:xfrm>
        <a:graphic>
          <a:graphicData uri="http://schemas.openxmlformats.org/drawingml/2006/table">
            <a:tbl>
              <a:tblPr/>
              <a:tblGrid>
                <a:gridCol w="2981520"/>
                <a:gridCol w="49435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underst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analy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isadvantag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s a list of the 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very difficult to achieve (i.e. time, effort and mone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miss or under sample key sub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A36B-744E-464B-B258-C68CC0DFFE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rcRect l="0" t="22443" r="7812" b="1941"/>
          <a:stretch/>
        </p:blipFill>
        <p:spPr>
          <a:xfrm>
            <a:off x="685800" y="1066680"/>
            <a:ext cx="7620120" cy="2971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609480" y="457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Systematic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85800" y="4050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of randomness is usually introduced into this kind of sampling by using random numbers to pick up the unit with which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y to select the 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representa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S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“most” conditions it can be analyzed as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when elements can’t be listed prior to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Disadvan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care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or periodic tre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ampling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2171-A6B3-43C4-95F9-0A3F82A14F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394200"/>
            <a:ext cx="8076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3. Stratified Sam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tion the popul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 groups (strata), e.g., age, wealth status, sex, religion, education status, agro-ecolog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 a simple random sample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group (stra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 data on each sampling unit that was randomly sampled from each group (stratum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his is useful when the study populations are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heterogeneous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f comparisons will be made of the results in subgroups of the study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rcRect l="4398" t="9686" r="2329" b="0"/>
          <a:stretch/>
        </p:blipFill>
        <p:spPr>
          <a:xfrm>
            <a:off x="1219320" y="3657600"/>
            <a:ext cx="64767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0B57-0D05-43CD-B6BD-2AFA13E2BC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457200" y="842760"/>
            <a:ext cx="83059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Principles of sampling from a stratified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alloc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from each subgroup are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ely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Proportionate all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self-we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when the subgroups vary dramatically in size of stud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ro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 and prec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liminates variability across str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need sampling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3CAD-A1F2-48B2-B985-25882831C3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914400" y="305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4. Cluster/Area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rcRect l="0" t="12504" r="3407" b="0"/>
          <a:stretch/>
        </p:blipFill>
        <p:spPr>
          <a:xfrm>
            <a:off x="1066680" y="685800"/>
            <a:ext cx="7010640" cy="2666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914400" y="3289680"/>
            <a:ext cx="769608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ly more economical than other 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logistically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Disadvan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within cluster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vari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the population,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uster samp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precise than a simple 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 of the sam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54F9-87EB-4393-98B2-C5BABBA840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9480" y="313200"/>
            <a:ext cx="807732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4520" indent="-344520" algn="just"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5. Multi-stage sampl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development of the idea of cluster samp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chnique is meant for big inquiries extending to a considerably large geographical area like an entire coun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f the technique of random-sampling is applied at all stages, the sampling procedure is described as multi-stage random samp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533520" y="2153880"/>
            <a:ext cx="81532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multi-stage sampling the first stage may be to select large primary sampling units such as states, then districts, then towns and finally certain families within towns (or Region ---zones -----districts-----kebeles----household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Ex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say you wanted to find 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subject is preferred by Amhara region school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lis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all Amhara region schoolchild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uld be near-impossible to come by, so you cann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 sample of the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the population into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imple random sam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next stage, tak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dom sample of schoo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with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lly you could per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random sampling on the stud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get the final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055E-16A0-4CBD-AE93-3E66DF2502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80880" y="304920"/>
            <a:ext cx="8229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4. Definition of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Variables an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e36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Vari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a set of observations o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 character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characteristics of popu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investiga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show variability (that are continuously changing among individua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t is 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actor or characte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whose 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can change from individual to individual or from time to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Example of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dy weight, feed intake, daily milk yield, sex, eye colo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145C-ED7C-4259-961F-94674BE1DF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57200" y="181440"/>
            <a:ext cx="82296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yp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(numer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ative (categoric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variables: variables having values expressed as numbers and the d/f b/n values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have numerical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ntitative variable can be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continuous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discrete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Continuous variables:</a:t>
            </a:r>
            <a:r>
              <a:rPr b="0" lang="en-US" sz="20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d using some kind of measuring scale, that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having continuous no. over a given interv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ength, weight, volume, area, density, ti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b. Discrete variable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having countabl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numb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d by 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amily size, litter size, microbial count, egg production, tiller count,  no. of students in a cla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203-C361-4F2C-9DAD-1EBE36D5268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457200" y="228600"/>
            <a:ext cx="8229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2. Qualitative (categorical) variabl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having values express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atego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n’t be measured in quantitative 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ather described by the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qualities they possess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litative variable can be 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an ordinal or nom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9b2d1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Ord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s having categories that can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re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i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ive dif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atus of students (excellent, very good, good); weight level of objects (small, medium, large); age level (baby, young, old, very old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b. Nom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variabl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ving categories that cannot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, no category is more valuable than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x, color, occupation, religion, identification numb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ssign numbers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(score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rdinal categories; however, the differences among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nu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numerical mea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ule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scores depict categ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not a numerical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qualitative variables are coded when data is entered in to a computer for the purpose of data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5A7-CB7B-4193-99B5-84E9D4149F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228600" y="393480"/>
            <a:ext cx="8686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What are dat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36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re  raw materials for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statistics means numerical results of any scientific measurement,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counts or observations.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nv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merical inform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study variables in a given s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ata set is </a:t>
            </a:r>
            <a:r>
              <a:rPr b="1" i="1" lang="en-US" sz="2000" spc="-1" strike="noStrike">
                <a:solidFill>
                  <a:srgbClr val="9e3611"/>
                </a:solidFill>
                <a:latin typeface="Arial"/>
              </a:rPr>
              <a:t>data value or 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an be obtain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inely kep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like dairy farm record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ring Liter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veys (using observations, Questionnai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counting diseased animals in a group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i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effect of feed intake on body weight 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 kg of calf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liters/day of milk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le or female sex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ue or green eye color, etc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Without data, statistical methods do not hav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C01C-BABE-4C46-8264-0AEA4C4D5A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4720" y="380880"/>
            <a:ext cx="83059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2. Differential statistics / Inferential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tatistical methods used for drawing conclusions about a population based on the information obtained from sample drawn from the pop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It performs </a:t>
            </a:r>
            <a:r>
              <a:rPr b="1" lang="en-IN" sz="2200" spc="-1" strike="noStrike">
                <a:solidFill>
                  <a:srgbClr val="000000"/>
                </a:solidFill>
                <a:latin typeface="Arial"/>
              </a:rPr>
              <a:t>prediction, hypothesis testing, and making of generalization </a:t>
            </a: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from sample to population, i.e. a conclusion reached on the basis of evidence and reas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Arial"/>
              </a:rPr>
              <a:t>Examples of inferential statistics: 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measures of       dispersion like variances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A3B-EB7A-4955-B68A-E2A7184EE2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228600"/>
            <a:ext cx="83059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arra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Raw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dat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itten down as collec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the fie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te of experimental trial, i.e. data that have not been summarized and organize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rdered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  arranged in ascending or descending order o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a organized and ready for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sour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ata: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ed by the investigator her/himsel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specific inquiry o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 data: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used by an investigator/researcher which has already been collected 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 or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SA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we get primar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rect personal observ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research area by the researche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s obtained from such data are very much rel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direct investi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 Here the researcher prepar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nd to the researchable area to be collected by enumerators and then get back the information to the resear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4329-E6C4-4CC7-B8FD-9A3AF6DFA8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3520" y="228600"/>
            <a:ext cx="81532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Presentation of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mmarized data can be presented both in numerically and graph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Numerical 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 of central tendency (location indicators): e.g. mean median,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requency distributions (like frequencies and percentages) mainly for qualitativ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s of dispersions (e.g. range, variance, standard deviations, CV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2. Graphical presen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s like bar graph, line graph, pie charts, etc are some of the graphical devices for presentation of statistical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114F-1FF2-4425-AC64-2929FBACD3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457200" y="454320"/>
            <a:ext cx="830592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5. Measures of central tendency (location indica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ulated from the raw data used to describe or represent a given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lues sh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central tendency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rithmetic me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a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hree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nd to lie at the center of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a property that gave the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to be considered as representative of a given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o lie somewhere at the center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the nature of the whol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8FC-0F4D-4D9F-AEDF-E73C041A0B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5905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1295280" y="403884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ure. Interpretation of mean, median and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CC3A-38C4-41E2-94C5-58C57F67D3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57200" y="31680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thmetic mea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widely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represen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as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central tendency and usually referr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or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Bu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ed by outlier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not be calculated 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data is mi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the actual value of data in to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sum of all values of the data divided by the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aw data it is calculated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2819520" y="0"/>
            <a:ext cx="30456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380880" y="3100320"/>
            <a:ext cx="1600200" cy="873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0"/>
          <p:cNvSpPr/>
          <p:nvPr/>
        </p:nvSpPr>
        <p:spPr>
          <a:xfrm>
            <a:off x="4467240" y="101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061360" y="2971800"/>
            <a:ext cx="11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/>
          <p:cNvPicPr/>
          <p:nvPr/>
        </p:nvPicPr>
        <p:blipFill>
          <a:blip r:embed="rId3"/>
          <a:stretch/>
        </p:blipFill>
        <p:spPr>
          <a:xfrm>
            <a:off x="3276720" y="3124080"/>
            <a:ext cx="20206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2057400" y="35071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i = the sum of the values starting from i = 1 up to i = n; 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457200" y="4115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ata collected from the population, the mean value (μ) is compu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914400" cy="514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2514600" y="46490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 = the populati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457200" y="50313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grouped data, each values of xi should be weighed by its respective frequency and the above formula is modifi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"/>
          <p:cNvPicPr/>
          <p:nvPr/>
        </p:nvPicPr>
        <p:blipFill>
          <a:blip r:embed="rId5"/>
          <a:stretch/>
        </p:blipFill>
        <p:spPr>
          <a:xfrm>
            <a:off x="762120" y="5715000"/>
            <a:ext cx="2895480" cy="762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"/>
          <p:cNvPicPr/>
          <p:nvPr/>
        </p:nvPicPr>
        <p:blipFill>
          <a:blip r:embed="rId6"/>
          <a:stretch/>
        </p:blipFill>
        <p:spPr>
          <a:xfrm>
            <a:off x="4267080" y="5638680"/>
            <a:ext cx="3962520" cy="91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8067-1BCC-4DEB-A721-697A34E870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457200" y="155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Compute the arithmetic mean for ungrouped and grouped data shown by Tables 2.1 and 2.2, respectiv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62120" y="1295280"/>
          <a:ext cx="6933960" cy="4907160"/>
        </p:xfrm>
        <a:graphic>
          <a:graphicData uri="http://schemas.openxmlformats.org/drawingml/2006/table">
            <a:tbl>
              <a:tblPr/>
              <a:tblGrid>
                <a:gridCol w="2627280"/>
                <a:gridCol w="430668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95360" indent="-495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2.1.  Percent Butterfat content of milk of 11 randomly selected cows from DMU dairy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 of c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butterfat of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E6A9-EBC3-4592-9F22-B1445271DB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371600" y="762120"/>
          <a:ext cx="6248520" cy="3182760"/>
        </p:xfrm>
        <a:graphic>
          <a:graphicData uri="http://schemas.openxmlformats.org/drawingml/2006/table">
            <a:tbl>
              <a:tblPr/>
              <a:tblGrid>
                <a:gridCol w="2846520"/>
                <a:gridCol w="340200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2.2. Frequency distribution of dogs that had different litter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er si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1B77-FA10-4D11-9A0C-49BEB1EFD7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533520" y="329400"/>
            <a:ext cx="8076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in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value in an ordered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.e., it is a value that divides the data into two hal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aw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can be determined first by arranging the data into ascending (or descending) 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is comput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M = (n+1)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e data set is od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 =[ (n/2)+ (n/2)+1]/2  if the data set is even, where M= median and n=the number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the sample data contains 10 observations, (n/2) = X5( fifth observation) and (n/2)+1 = X5+1 = X6 (sixth observation).  Therefore, the median value would be half way between the fifth and sixth observation. i.e., (X5+X6)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E0B-5B0B-4831-AFDC-6B2E5356E7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762120"/>
            <a:ext cx="807696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dd number of observations  like = 4, 1, 2, 5, 9;  Median = the value of the middle observation = 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ven number of observation like = 4, 1, 2,2,5,9;  Median = the average value of the middle two observ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2+4)/2 = 3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: To find the middle observations both in odd and/or even number of observations, the raw data must be arranged in either ascending or descending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914400" y="495288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b05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sing data of tables 2.1 and 2.2 determine the median valu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143-A73B-4170-BEE8-0CF8C94595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304920" y="-176760"/>
            <a:ext cx="853416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Th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frequently observed value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mixtures of populations are sampled, the data can have more than one modal value. i.e., multimodal distrib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given set of data may b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modal, bimodal, or multimodal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wo mo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greater than or equal to three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1, 2, 2, 5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using data of tables 2.1 and 2.2 determine the mode valu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Summary on the usage of measures of central t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both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 and quali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oth continuous and discrete) as well a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cale vari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escribing data, the variable has to be </a:t>
            </a:r>
            <a:r>
              <a:rPr b="0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7C6C-6C55-4523-ABA2-A8AE14CC1B7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38080" y="609480"/>
            <a:ext cx="77724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9e3611"/>
                </a:solidFill>
                <a:latin typeface="Arial"/>
              </a:rPr>
              <a:t>Biometry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is the application of statistics used to solv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biolog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More scientifically, it is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the application of statistical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naly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fields of </a:t>
            </a:r>
            <a:r>
              <a:rPr b="1" i="1" lang="en-US" sz="2000" spc="-1" strike="noStrike">
                <a:solidFill>
                  <a:srgbClr val="9b2d1f"/>
                </a:solidFill>
                <a:latin typeface="Arial"/>
              </a:rPr>
              <a:t>biological sciences and medicin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n order to solve biologic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Biometry can also be called biometrics or biostatistics or biomathema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4520" indent="-34452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000" spc="-1" strike="noStrike">
                <a:solidFill>
                  <a:srgbClr val="00b050"/>
                </a:solidFill>
                <a:latin typeface="Arial"/>
                <a:ea typeface="Arial"/>
              </a:rPr>
              <a:t>Hence</a:t>
            </a:r>
            <a:r>
              <a:rPr b="1" i="1" lang="en-IN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knowledge of statistics is required to apply statistical methods i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B18-B7BC-43B1-A90D-191F81FAF1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80880" y="166680"/>
            <a:ext cx="8229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ferred measure of central t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ever it can be used amongst the three. This is beca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uses all the values in its computational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ereas, the other two are rather location 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 may ignore useful d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s only influenced by one or two observations as the case may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all thi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 should be exerci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using mean value for data representation as it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affected of the three w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data are considerably ske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9052-54CA-48EE-A996-E7A693894E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442800" y="30600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6. Measures of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7200" y="685800"/>
            <a:ext cx="845820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xpression of variabil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data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how spread are values  from the center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site of 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dispersions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ces (sample and population vari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mple and population Standard dev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Error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fficient of variation (C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reported with average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values (me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e do not adequately describe a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conside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score on biostatistics of two cla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tudents, 2006 and 2007 class displayed by Table 3.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n score for the 2006 and 2007 clas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0% and 75.4%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ectiv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repor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an value alone misle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two class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in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D1B7-2B12-459A-ACBB-391F88A8E8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1752480"/>
          <a:ext cx="8001000" cy="4556160"/>
        </p:xfrm>
        <a:graphic>
          <a:graphicData uri="http://schemas.openxmlformats.org/drawingml/2006/table">
            <a:tbl>
              <a:tblPr/>
              <a:tblGrid>
                <a:gridCol w="3105000"/>
                <a:gridCol w="2448000"/>
                <a:gridCol w="2448000"/>
              </a:tblGrid>
              <a:tr h="701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able 3.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statistics final score of 2006 and 2007 class students (x/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 (X/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lass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(∑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s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devi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57200" y="1584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some measure of disper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Range is reported togeth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mean value,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reader would understand that the two class students are widely different in performanc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</a:t>
            </a:r>
            <a:r>
              <a:rPr b="0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2006 class students are highly vari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erform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2007 class students are relatively close to each oth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reader cannot get this idea by inspecting the mean value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2FC-F084-49AA-879C-A445717E0B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380880" y="482760"/>
            <a:ext cx="8305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</a:t>
            </a:r>
            <a:r>
              <a:rPr b="0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d/c b/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and lowest value in a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dif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uch as the range of the 2006 class score i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within 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 it can also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int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the said 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between 55 and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nderstand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graspable measure of dispers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a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crude measure of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can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asily overestimate the true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ata contain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utlier values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consider the scores of two classes of students (class A and B) displayed by Table 3.1. The mean score of class A is 75% and that of class B is 75.4%. The range of the scores is between 55-95% and 65-85%, respectively. Looking at this report, a reader would understand that class A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aried in their s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range in this situ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emphas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rue dispersion of the values in the presence of outlier values as it only takes into conside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E48-71E2-4135-9E7B-894B7FD768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04920" y="377280"/>
            <a:ext cx="8381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the dispersion of 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 from the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Variance: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ed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ng the sum of the squared deviations by the total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types of var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pulation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σ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μ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mple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S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    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 n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nce is also termed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square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nce it is the mean of the total squared deviation of each value from the mean. i.e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variance = Mean square =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otal sum of squared deviation/degrees of freed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bbreviated, the expression can be writte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S</a:t>
            </a:r>
            <a:r>
              <a:rPr b="1" lang="en-US" sz="1800" spc="-1" strike="noStrike" u="sng" baseline="30000">
                <a:solidFill>
                  <a:srgbClr val="0000cc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 = MS = TS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86400" y="31240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B0C6-7EC0-4250-B609-BA0B724421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457200" y="27216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mple variance S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stimator of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pulation variance σ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ample variance is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-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red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(sample size) because if the denominator is sample size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nderestimates the true dispersion σ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 expresses the dispersion in the data values in squared un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using data of the 2006 class score shown by table 3.3 below, the sample variance is comput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∑ (xi –    )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 n-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500/7 = 214.29 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dicates t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core of a student on average deviated from the average sc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lass by 214.29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eviation from the center is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ercent squ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nce variance expresses deviation in squared uni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asily understandable by common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square root of var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expres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iation in linear 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is gives a quantity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 deviation (S).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hat is why estimating Standard deviation from the variance value is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209680" y="28954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763-5828-4542-A2B8-42D0676D0E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28600" y="380880"/>
            <a:ext cx="8458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standard deviation (S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described as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sitive square root of vari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 is used to ex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ation in linear unit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standard deviation (S) = √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√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∑ (xi –    )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/ n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6324480" y="12952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8" name="Rectangle 7"/>
          <p:cNvSpPr/>
          <p:nvPr/>
        </p:nvSpPr>
        <p:spPr>
          <a:xfrm>
            <a:off x="457200" y="1752480"/>
            <a:ext cx="8381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he 2006 class students scor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 = √214.29 = 14.64%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e., in the 2006 clas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re of a given student deviated from the class average by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4.64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much easier to understand since it is expressed in similar units as the values in the data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Summariz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most preferred measure of dispersion that satisfi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wo important qualiti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its comput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it is not biased as rang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well underst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this makes it  important in higher stat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28A9-BD4F-4F06-84C7-1857AF735D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371600" y="674640"/>
          <a:ext cx="6705720" cy="4624560"/>
        </p:xfrm>
        <a:graphic>
          <a:graphicData uri="http://schemas.openxmlformats.org/drawingml/2006/table">
            <a:tbl>
              <a:tblPr/>
              <a:tblGrid>
                <a:gridCol w="2381400"/>
                <a:gridCol w="2016000"/>
                <a:gridCol w="2308320"/>
              </a:tblGrid>
              <a:tr h="3052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class Score (X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– 75 =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– 75 =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– 75 =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– 75 =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– 75 = 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 2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– 75 =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75 = 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75 = 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Xi –     )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/7 = 214.29 %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4267080" y="1143000"/>
                <a:ext cx="83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6400800" y="10666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4800600" y="42670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6172200" y="42670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4191120" y="4648320"/>
                <a:ext cx="804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Rectangle 16"/>
          <p:cNvSpPr/>
          <p:nvPr/>
        </p:nvSpPr>
        <p:spPr>
          <a:xfrm>
            <a:off x="533520" y="38124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.2. The 2006 class score  Biostatisticsa data used for illustration of variance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2F8F-DBF4-4859-8B66-953634DC4E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533520" y="457200"/>
            <a:ext cx="82296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end as the standard deviation of the mean divided by the square root of the samp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z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andard erro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SE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elpful to judge how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ant is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ple mean from the unknown population 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which the sample is dra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ypothesis testing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o how mu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rror level can be toler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deciding that the sample estimate is bi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calculating CV (coefficient of variation) value can be used as a guide to deci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ple estimate is biased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"/>
              <p:cNvSpPr txBox="1"/>
              <p:nvPr/>
            </p:nvSpPr>
            <p:spPr>
              <a:xfrm>
                <a:off x="2362320" y="2362320"/>
                <a:ext cx="1371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553080" y="1828800"/>
                <a:ext cx="371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851-A9D7-4706-A6CB-B577FD2F45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228600" y="466920"/>
            <a:ext cx="8229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efficient of variation (C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describes variability in the data set as a proportion to the mean, i.e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ve measure of var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efficient of variation is expressed as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V  =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"/>
              <p:cNvSpPr txBox="1"/>
              <p:nvPr/>
            </p:nvSpPr>
            <p:spPr>
              <a:xfrm>
                <a:off x="6400800" y="2133720"/>
                <a:ext cx="914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380880" y="2909880"/>
            <a:ext cx="838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us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compare the relative dispersion (var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ata sets measured in different units as well as magn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variable or homogeneous is the distribution of weights of same age group individu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given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ule of thumb (standard agreemen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an be used as a guide for such kind of decision based on C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7A4-1400-4FAD-BEDA-6886C42AA4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3520" y="304920"/>
            <a:ext cx="82296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Application of statistics in rese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s or biometrics can be applied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design data collection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ype of research both in Survey type (exploratory) and experimental re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Questionnaires, interview, group discussion, experiment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mmarize and describe dat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ables,  figur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graphs, line graphs, scatter plots, pie charts et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atistical quantitie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asures of central tendencie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measures of dispersions, such as Range and Var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standard deviation, standard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infer population parameter from sample statistics, i.e.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ake generalization about population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comparison among populations, such as Hypothesis testin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pothesis testing involves comparing populations in order to make clear cut dec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9E41-F917-40AA-BA57-EB6E65037C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≤ 10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estimate is considered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good approxi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arametric valu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usually achieved in experimental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10 and 20%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lso considered as a good approximation of the parametric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in fac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good prec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vel for samples obtained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rvey type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But, for data generated from experimental research, this should be taken a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pper tolerable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eviation for a sample stati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I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0 and 30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lerated for exploratory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for designed experiments, it is indicative of too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ror or an un-standardized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, and thus one has to consider revising the methodology of data coll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art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sing the methodology (randomization) of 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bviousl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ing the sample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lso a good approach to improve precision of est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A5B1-BD2D-428A-BEE7-0EC5C2C04A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33520" y="259560"/>
            <a:ext cx="830556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2.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Definition of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Arial"/>
              </a:rPr>
              <a:t>Population, sample and related termi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popu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collection of all possible individuals, objects or measurement of interest, or  i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tire subjec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research interest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differs from time to time, which either increase or decrease through tim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 of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different ways of classifying populations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ze of populations as finite and in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ite populations are those that can be cou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inite populations are those that are too large to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ure of member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or non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al or imagina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al population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ist in time an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, while as imaginary populations are thos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perimentally cre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3180-C798-4FDD-BBCD-C0D479A385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80880" y="457200"/>
            <a:ext cx="830592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Sub sets of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Target Population/theoretical population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ers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group of individuals or 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which researchers are interested in generalizing the conclu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Accessible Population/study population/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ref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pulation in rese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which the researchers c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their 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opulation is a subse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ccessible population researchers draw thei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fra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from which the sample is drawn.  e.g., list of livestock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t of the pop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ed to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uni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opulation that are selected –   like Individual people, health facilities, distric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78E-4022-4C17-A0B3-530CF94BBC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6953400" cy="43434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1066680" y="510588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Adolescents = youth = young people = teenagers  = youngster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E73F-62BD-4154-B11E-9D51A6AA31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533520" y="393120"/>
            <a:ext cx="80769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1.3. Samp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and Types of samp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at is Samp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which we stud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mall par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(sample) to make judgments abou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involv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a number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a defined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y Do W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population of interest is larg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can be more effic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know or to esti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racteristics of a pop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reaching the entire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money/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actually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accurat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C851-BEA9-4572-81FB-D89F8DF11A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04920" y="-13680"/>
            <a:ext cx="86104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Types of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1.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N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on-probability sampling or purposiv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ampling method in wh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probability is assigned for each elementary u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rather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judgment is used to select the sam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ces of selecting a subje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very element of the population has the opportunity for sel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ampling frame is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likely to produc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a bias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ricts gene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ence, Judgmen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owball, Qu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mpling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Probability sampling: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bability sampling is also known as ‘random sampling’ or ‘chanc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population h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opportunity/chance for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element (membe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un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has a known proba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selected for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ncreases sample's representative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echnique is used when it is desira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generalize or infer to a larger pop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20-03-05T08:48:09Z</dcterms:modified>
  <cp:revision>530</cp:revision>
  <dc:subject/>
  <dc:title>Topics to be covered</dc:title>
</cp:coreProperties>
</file>