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B6A7-97DF-48A8-8BEA-B35EFA301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6C7A-FB93-4078-A967-942D2AA36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FD554-1E03-45B0-9C89-29FE68C4D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4E0D0-1778-4755-B648-A4852C1C2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83CED-4831-433A-A852-0AF2380EE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8EE0A-A3A9-49D6-8893-CAD3FF896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AAA23-6FB3-4BDC-A1AB-318FFEEC7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F6E3C-D2E2-4073-9A26-F783A13CA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B11F4-8545-48D9-98B3-CC93D4F14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F9734-96D4-45CD-AC19-C70EAF75E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10CA7-2A81-48CD-92C8-C40269F69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27832-58CD-4614-93EE-7EEF335DD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45671-DE38-469A-812F-D88EAFCA4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D85FC-1E9E-4E4C-B4C1-25108B8C0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CC7E1-4549-489D-9A91-4C19A1726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FBB19-3C31-463D-8E37-665DDED52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BA1EC-D561-4B9E-A363-333316D91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FDD7C-8D48-4004-962E-2C975C5DF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B87DB-3A72-43E0-81FF-715DEAE18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0759EC-F12A-4399-81B2-40AEF45F9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696A9-F8A3-43D3-BCC1-9FF965CBE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9B7F2-2073-42C5-9788-F0080BEF1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F9CB8-400B-4620-9E41-1B0EA7D57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A8847-D4EF-490B-AED6-D18D2A0A4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1EBE8-41E6-4BF4-991A-19C92AAB8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1D9D3-3A76-452B-8501-BD79AB507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4F380-916A-4FC8-9944-E4008C961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75B49-3CE5-4547-A9C5-2AACAAA4E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552E9-E257-4EFB-8C6B-E5B570E12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6E4F4-8817-4B0E-8B4D-CE209F20F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EEBE34-E1E2-43FD-BAA4-470574E84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AACD77-8A5A-4187-9B6D-EF9A8D7848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8562DA-0FCC-414E-8701-A574BEC5FC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38F55-0813-4282-93BB-C3DDEE0D3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5EDB6-3AB1-43FC-AA2D-EEB16FE8E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70AB4-D9D4-49EC-884F-2B63BB0DC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F17479-B1FE-4DA1-8C2F-30E6ECDEA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BF7222-DA7D-4A8C-9BA5-5BDD68E2D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35E01-4302-47D1-8723-D4D8F2EF2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7D5F1-9901-49C8-9E00-1CD366425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C931E-729F-4B9D-A26E-7A67284CB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07C05-30D4-4193-AA5A-63AF18E0A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1300B-B0EA-4D22-8155-2E5357846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C1F3C8-548A-4F76-802D-5326DF93A2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EBC1AB-F19C-496A-AFD4-F308EECB29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4852F4-D3D9-4E80-B54E-76C825BAD2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28D2-F404-455F-A206-3D17D3A0C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AEE823-1B7E-46C1-95D5-61AE068B6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BEDC2-5233-4210-8C8D-62ACC6A115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C9B00-CC3C-4096-BA96-C5E2EE79CF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75EBCB-0F55-4589-9929-8956E26AF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65833-3147-4773-8F2B-1E8F3CCF0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7D7E2-923D-43CE-97B2-49E4EF08C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14A26-643D-43DE-8B87-FA936106E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CFCC5-D982-42A4-8F02-2A650E69E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293E63-4FBE-4224-840E-E8CE4952A6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01F7DA-6F75-413B-B99F-58E8796567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AE09-841F-440D-986D-E7413F198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CE07A6-8023-4014-A66F-C5C68E64B9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C496B-CBC5-4782-BF4D-108ED593A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C2DF-E127-4717-A379-02BF99015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C07F-7626-4424-8815-4E17DD5CF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5B09-A19A-4E8D-85E3-AEFF9441D74F}"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5D30-49B8-4A15-830B-E560271FDC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5295-ED0C-4FE3-8DBA-05A0FB0DA674}"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0DD6-6FE1-4B8E-AEF7-9AFF580BE9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9D10-DC56-44EB-AC52-DCB71D1E1997}"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BB97-D4E2-4CC4-8C1D-38FEBBE4E6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9108-7F9C-4953-84C8-F7670E606D75}"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07EB-969A-4EF2-9634-B0A8F61F80A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DF60-B45E-48CD-B491-AD8E9851ED8C}"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3E74-6041-449C-85A4-E508060499C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31D3-FD60-4ED1-912D-AE13B6AE27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6BB7-C405-47D8-93DE-0F94057E26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228600" y="235080"/>
            <a:ext cx="8610480" cy="497304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it is given as </a:t>
            </a: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is done at 5% level of significant  (95% Confident interval), the Critical value of Z (Z</a:t>
            </a:r>
            <a:r>
              <a:rPr b="0" lang="en-US" sz="1800" spc="-1" strike="noStrike" baseline="-25000">
                <a:solidFill>
                  <a:srgbClr val="000000"/>
                </a:solidFill>
                <a:latin typeface="Arial"/>
              </a:rPr>
              <a:t>critical</a:t>
            </a:r>
            <a:r>
              <a:rPr b="0" lang="en-US" sz="1800" spc="-1" strike="noStrike">
                <a:solidFill>
                  <a:srgbClr val="000000"/>
                </a:solidFill>
                <a:latin typeface="Arial"/>
              </a:rPr>
              <a:t>)  can be reed as Z</a:t>
            </a:r>
            <a:r>
              <a:rPr b="0" lang="en-US" sz="2400" spc="-1" strike="noStrike" baseline="-25000">
                <a:solidFill>
                  <a:srgbClr val="000000"/>
                </a:solidFill>
                <a:latin typeface="Arial"/>
              </a:rPr>
              <a:t>0.025 =</a:t>
            </a:r>
            <a:r>
              <a:rPr b="0" lang="en-US" sz="1800" spc="-1" strike="noStrike">
                <a:solidFill>
                  <a:srgbClr val="000000"/>
                </a:solidFill>
                <a:latin typeface="Arial"/>
              </a:rPr>
              <a:t>1.96 </a:t>
            </a:r>
            <a:r>
              <a:rPr b="1" lang="en-US" sz="1800" spc="-1" strike="noStrike">
                <a:solidFill>
                  <a:srgbClr val="000000"/>
                </a:solidFill>
                <a:latin typeface="Arial"/>
              </a:rPr>
              <a:t>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was done at 1% level of significance (99% Confident interval), the critical Z value would be Z</a:t>
            </a:r>
            <a:r>
              <a:rPr b="0" lang="en-US" sz="1800" spc="-1" strike="noStrike" baseline="-25000">
                <a:solidFill>
                  <a:srgbClr val="000000"/>
                </a:solidFill>
                <a:latin typeface="Arial"/>
              </a:rPr>
              <a:t>0.005 </a:t>
            </a:r>
            <a:r>
              <a:rPr b="1" lang="en-US" sz="1800" spc="-1" strike="noStrike">
                <a:solidFill>
                  <a:srgbClr val="000000"/>
                </a:solidFill>
                <a:latin typeface="Arial"/>
              </a:rPr>
              <a:t>= 2.58  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2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1441-651E-45E7-BA32-DE1E56B02D5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1" name="Picture 2" descr=""/>
          <p:cNvPicPr/>
          <p:nvPr/>
        </p:nvPicPr>
        <p:blipFill>
          <a:blip r:embed="rId1"/>
          <a:stretch/>
        </p:blipFill>
        <p:spPr>
          <a:xfrm>
            <a:off x="380880" y="762120"/>
            <a:ext cx="8382240" cy="4552920"/>
          </a:xfrm>
          <a:prstGeom prst="rect">
            <a:avLst/>
          </a:prstGeom>
          <a:ln w="0">
            <a:noFill/>
          </a:ln>
        </p:spPr>
      </p:pic>
      <p:sp>
        <p:nvSpPr>
          <p:cNvPr id="272"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B6EA-0C24-4861-8C63-3D044D0EC57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2" descr=""/>
          <p:cNvPicPr/>
          <p:nvPr/>
        </p:nvPicPr>
        <p:blipFill>
          <a:blip r:embed="rId1"/>
          <a:stretch/>
        </p:blipFill>
        <p:spPr>
          <a:xfrm>
            <a:off x="1066680" y="3581280"/>
            <a:ext cx="3086280" cy="352440"/>
          </a:xfrm>
          <a:prstGeom prst="rect">
            <a:avLst/>
          </a:prstGeom>
          <a:ln w="0">
            <a:noFill/>
          </a:ln>
        </p:spPr>
      </p:pic>
      <p:pic>
        <p:nvPicPr>
          <p:cNvPr id="276" name="Picture 3" descr=""/>
          <p:cNvPicPr/>
          <p:nvPr/>
        </p:nvPicPr>
        <p:blipFill>
          <a:blip r:embed="rId2"/>
          <a:stretch/>
        </p:blipFill>
        <p:spPr>
          <a:xfrm>
            <a:off x="6019920" y="3505320"/>
            <a:ext cx="676080" cy="390240"/>
          </a:xfrm>
          <a:prstGeom prst="rect">
            <a:avLst/>
          </a:prstGeom>
          <a:ln w="0">
            <a:noFill/>
          </a:ln>
        </p:spPr>
      </p:pic>
      <p:sp>
        <p:nvSpPr>
          <p:cNvPr id="277"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278" name="Picture 4" descr=""/>
          <p:cNvPicPr/>
          <p:nvPr/>
        </p:nvPicPr>
        <p:blipFill>
          <a:blip r:embed="rId3"/>
          <a:stretch/>
        </p:blipFill>
        <p:spPr>
          <a:xfrm>
            <a:off x="6858000" y="3581280"/>
            <a:ext cx="885960" cy="35244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F029-F21D-4BAE-A3FD-C3D9FE1599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B339-4B79-43B5-8736-46DCD5850F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488F-0851-4664-ABB7-70FB1E22F5E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01EF-1662-4F63-AA3C-57811BAD0B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28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28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3DEC-44B2-4EE5-9E4F-6E009FA150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508C-03F5-4F7E-AACD-B66FCC33B3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7DDE-410A-4B0C-BCF1-38179CACA4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F9CD-F9AA-41F1-92D1-7184ED7ED5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8" name="Rectangle 3"/>
          <p:cNvSpPr/>
          <p:nvPr/>
        </p:nvSpPr>
        <p:spPr>
          <a:xfrm>
            <a:off x="228600" y="332640"/>
            <a:ext cx="845820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Hypothesis testing based on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8E1D-9B8A-41C8-A56F-345A5ACE0A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29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066680" y="3124080"/>
            <a:ext cx="3962520" cy="2370240"/>
          </a:xfrm>
          <a:prstGeom prst="rect">
            <a:avLst/>
          </a:prstGeom>
          <a:ln w="0">
            <a:noFill/>
          </a:ln>
        </p:spPr>
      </p:pic>
      <p:sp>
        <p:nvSpPr>
          <p:cNvPr id="30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A2E5-88B4-4735-8048-2A7BE22834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Picture 2" descr=""/>
          <p:cNvPicPr/>
          <p:nvPr/>
        </p:nvPicPr>
        <p:blipFill>
          <a:blip r:embed="rId1"/>
          <a:stretch/>
        </p:blipFill>
        <p:spPr>
          <a:xfrm>
            <a:off x="3809880" y="3581280"/>
            <a:ext cx="2067120" cy="381240"/>
          </a:xfrm>
          <a:prstGeom prst="rect">
            <a:avLst/>
          </a:prstGeom>
          <a:ln w="0">
            <a:noFill/>
          </a:ln>
        </p:spPr>
      </p:pic>
      <p:pic>
        <p:nvPicPr>
          <p:cNvPr id="304" name="Picture 3" descr=""/>
          <p:cNvPicPr/>
          <p:nvPr/>
        </p:nvPicPr>
        <p:blipFill>
          <a:blip r:embed="rId2"/>
          <a:stretch/>
        </p:blipFill>
        <p:spPr>
          <a:xfrm>
            <a:off x="3733920" y="4114800"/>
            <a:ext cx="3554280" cy="638280"/>
          </a:xfrm>
          <a:prstGeom prst="rect">
            <a:avLst/>
          </a:prstGeom>
          <a:ln w="0">
            <a:noFill/>
          </a:ln>
        </p:spPr>
      </p:pic>
      <p:sp>
        <p:nvSpPr>
          <p:cNvPr id="30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0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0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not more extreme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26AE-642D-4A78-A44D-9AF526026E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9E6B-878F-4550-8CA7-971C7048F0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8DA9-6DE4-433F-AB6B-CEF6DFB7D2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31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31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8722-DBE2-4066-9470-1C91062649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A214-7BE9-45F3-B1B9-9260CB0E4C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3"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5EF4-C4B0-4B6E-91F9-0AC51E5EA4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5" name="Picture 2" descr=""/>
          <p:cNvPicPr/>
          <p:nvPr/>
        </p:nvPicPr>
        <p:blipFill>
          <a:blip r:embed="rId1"/>
          <a:srcRect l="0" t="35985" r="0" b="29973"/>
          <a:stretch/>
        </p:blipFill>
        <p:spPr>
          <a:xfrm>
            <a:off x="685800" y="990720"/>
            <a:ext cx="6934320" cy="1904760"/>
          </a:xfrm>
          <a:prstGeom prst="rect">
            <a:avLst/>
          </a:prstGeom>
          <a:ln w="0">
            <a:noFill/>
          </a:ln>
        </p:spPr>
      </p:pic>
      <p:sp>
        <p:nvSpPr>
          <p:cNvPr id="326"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327"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328" name="Picture 2" descr=""/>
          <p:cNvPicPr/>
          <p:nvPr/>
        </p:nvPicPr>
        <p:blipFill>
          <a:blip r:embed="rId2"/>
          <a:stretch/>
        </p:blipFill>
        <p:spPr>
          <a:xfrm>
            <a:off x="990720" y="3124080"/>
            <a:ext cx="1458720" cy="457200"/>
          </a:xfrm>
          <a:prstGeom prst="rect">
            <a:avLst/>
          </a:prstGeom>
          <a:ln w="0">
            <a:noFill/>
          </a:ln>
        </p:spPr>
      </p:pic>
      <p:pic>
        <p:nvPicPr>
          <p:cNvPr id="329"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38D1-4722-411C-8344-721619A7F1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332"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333" name="Picture 2" descr=""/>
          <p:cNvPicPr/>
          <p:nvPr/>
        </p:nvPicPr>
        <p:blipFill>
          <a:blip r:embed="rId1"/>
          <a:stretch/>
        </p:blipFill>
        <p:spPr>
          <a:xfrm>
            <a:off x="838080" y="1905120"/>
            <a:ext cx="3533760" cy="1066680"/>
          </a:xfrm>
          <a:prstGeom prst="rect">
            <a:avLst/>
          </a:prstGeom>
          <a:ln w="0">
            <a:noFill/>
          </a:ln>
        </p:spPr>
      </p:pic>
      <p:pic>
        <p:nvPicPr>
          <p:cNvPr id="334" name="Picture 3" descr=""/>
          <p:cNvPicPr/>
          <p:nvPr/>
        </p:nvPicPr>
        <p:blipFill>
          <a:blip r:embed="rId2"/>
          <a:stretch/>
        </p:blipFill>
        <p:spPr>
          <a:xfrm>
            <a:off x="4952880" y="1981080"/>
            <a:ext cx="3962520" cy="1143000"/>
          </a:xfrm>
          <a:prstGeom prst="rect">
            <a:avLst/>
          </a:prstGeom>
          <a:ln w="0">
            <a:noFill/>
          </a:ln>
        </p:spPr>
      </p:pic>
      <p:pic>
        <p:nvPicPr>
          <p:cNvPr id="335" name="Picture 4" descr=""/>
          <p:cNvPicPr/>
          <p:nvPr/>
        </p:nvPicPr>
        <p:blipFill>
          <a:blip r:embed="rId3"/>
          <a:stretch/>
        </p:blipFill>
        <p:spPr>
          <a:xfrm>
            <a:off x="2819520" y="3276720"/>
            <a:ext cx="4694040" cy="2209680"/>
          </a:xfrm>
          <a:prstGeom prst="rect">
            <a:avLst/>
          </a:prstGeom>
          <a:ln w="0">
            <a:noFill/>
          </a:ln>
        </p:spPr>
      </p:pic>
      <p:pic>
        <p:nvPicPr>
          <p:cNvPr id="336"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337"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338"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339" name="Elbow Connector 12"/>
          <p:cNvCxnSpPr/>
          <p:nvPr/>
        </p:nvCxnSpPr>
        <p:spPr>
          <a:xfrm>
            <a:off x="762120" y="4038120"/>
            <a:ext cx="2743920" cy="1220040"/>
          </a:xfrm>
          <a:prstGeom prst="bentConnector3">
            <a:avLst>
              <a:gd name="adj1" fmla="val 1508"/>
            </a:avLst>
          </a:prstGeom>
          <a:ln w="28440">
            <a:solidFill>
              <a:srgbClr val="0000cc"/>
            </a:solidFill>
            <a:miter/>
            <a:tailEnd len="med" type="arrow" w="med"/>
          </a:ln>
        </p:spPr>
      </p:cxn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6472-3D59-460D-9F7E-CA7570EA28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EA5F-8ECD-472B-A381-4E7C898C5B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2ED1-2A00-47D4-B2F7-FD7D3B4808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34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07A6-0BA6-4CC9-8ABB-B205CBD09B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9"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351"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353"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354"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6"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76A9-A9C9-442C-87D0-7234EC4042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8"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359"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360"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361"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8292-036E-4601-AD98-1E36B955745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62FB-D3EC-46C7-88F0-6B74BF458C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5"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9"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70"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892F-DF61-4489-8A4B-05EAEC8619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4"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3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0"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1" name="Picture 11" descr=""/>
          <p:cNvPicPr/>
          <p:nvPr/>
        </p:nvPicPr>
        <p:blipFill>
          <a:blip r:embed="rId1"/>
          <a:stretch/>
        </p:blipFill>
        <p:spPr>
          <a:xfrm>
            <a:off x="2514600" y="5943600"/>
            <a:ext cx="457200" cy="712800"/>
          </a:xfrm>
          <a:prstGeom prst="rect">
            <a:avLst/>
          </a:prstGeom>
          <a:ln w="0">
            <a:noFill/>
          </a:ln>
        </p:spPr>
      </p:pic>
      <p:sp>
        <p:nvSpPr>
          <p:cNvPr id="38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3"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4"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8BC3-7E0E-418B-9FA6-54B4E5E100C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5F98-4CDD-44F5-9716-3879A22DB1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2"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2C8C-A2FC-438E-9E91-C7B416114C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1066680"/>
            <a:ext cx="8076960" cy="5578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possibilities of accepting or rejecting the hypothesis</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Accepting the null hypothesis when it is true</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Rejecting the null hypothesis when it is true </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Accepting the null hypothesis when it is false </a:t>
            </a: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Rejecting the null hypothesis when it is false</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ove two wrong decisions are related to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a:t>
            </a:r>
            <a:r>
              <a:rPr b="0" lang="en-US" sz="2200" spc="-1" strike="noStrike">
                <a:solidFill>
                  <a:srgbClr val="000000"/>
                </a:solidFill>
                <a:latin typeface="Arial"/>
              </a:rPr>
              <a:t> and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I</a:t>
            </a:r>
            <a:r>
              <a:rPr b="0" lang="en-US" sz="2200" spc="-1" strike="noStrike">
                <a:solidFill>
                  <a:srgbClr val="000000"/>
                </a:solidFill>
                <a:latin typeface="Arial"/>
              </a:rPr>
              <a:t> errors</a:t>
            </a:r>
            <a:endParaRPr b="0" lang="en-US" sz="22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 error is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I error is </a:t>
            </a:r>
            <a:r>
              <a:rPr b="1" lang="el-GR" sz="2400" spc="-1" strike="noStrike">
                <a:solidFill>
                  <a:srgbClr val="000000"/>
                </a:solidFill>
                <a:latin typeface="Arial"/>
              </a:rPr>
              <a:t>β</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D5B5-8F68-46E3-A5F9-7CB62E6A616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6" name="Rectangle 2"/>
          <p:cNvSpPr/>
          <p:nvPr/>
        </p:nvSpPr>
        <p:spPr>
          <a:xfrm>
            <a:off x="457200" y="380880"/>
            <a:ext cx="8153280" cy="48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5389-5855-4BE6-A34C-CFE4AB398B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66E4-392E-4F41-AB33-C56097E52D6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62D4-5241-436F-A434-B4EEA465E9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
              <p:cNvSpPr txBox="1"/>
              <p:nvPr/>
            </p:nvSpPr>
            <p:spPr>
              <a:xfrm>
                <a:off x="990720" y="2971800"/>
                <a:ext cx="1218960" cy="77004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61"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262"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263"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264"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2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9T14:42:53Z</dcterms:modified>
  <cp:revision>813</cp:revision>
  <dc:subject/>
  <dc:title>Topics to be covered</dc:title>
</cp:coreProperties>
</file>