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CF5A-D7E8-42CB-8D05-AC66F042E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1BA9-D94C-4499-BF12-FD4BBD1CD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D9A1-2437-4576-AE71-CA635298F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337B-A096-4837-B6DC-8DD11BD8C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3AA-EE3A-48C5-9150-A9CB4384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B83-C94C-46BD-8347-5ED0906F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734-C200-4183-B1B1-3CEF9513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662-FD35-4EAF-A4CD-9EC0D1DE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8998-FEC1-4687-B9DC-8376F455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0ADB-534B-4683-AF98-13ED8ED9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B268-E250-4A98-BC10-97D6FFC0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FE0A-DD76-4C5C-AD26-98ADB056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82E9-88B5-4B8A-97A3-BFE3784E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E8C4-D83B-4B56-A41C-07E4AB27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DA7E-E38E-4DCA-A554-9286D8CD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A78-994A-4D28-985E-ED99BE13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9B99-ABA5-4858-ACB2-57489F6C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5513-BDD3-4FBA-8DA5-3D772D3E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816D-3223-4D26-9AF1-A4C20461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CDF6-661E-4D65-92EA-E6EB1D52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EAC4-81E0-4816-A804-877EADD7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486C-719A-465B-84DA-E9B0B20F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C244F-711F-4383-8B5E-7B1B86A1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9E6A-736F-45BE-9D12-9954BA67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C922-3C30-4870-BA8B-C2C48036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D2071-5E7D-4287-AB37-101391CF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8D2-DCFE-4BF7-B5D8-EB22DE91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4130B-63FA-4D7F-B424-FFE8E972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C40B5-7728-4362-A3B5-C9FE81BD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C67D-82D1-4775-A2D5-920621B4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349C9-91FB-4CD5-9702-98F2C9E1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D4335-CF84-48BC-9530-FEFB391B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6B87-0922-4D1C-B0BB-226A12ED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81A7D-62D2-4A61-9894-2F44962B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0310A-DCB9-4B15-80D9-15B1993E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8C595-E924-42E3-B698-A90A4EF9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A27D3-BC5D-4D9C-813A-9195E147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74B-DE97-401C-BB03-25280668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87764-6B96-454B-B349-FADEF7C0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0282-161E-4C7E-AF23-6C91577A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F9E65-AFC0-4442-9AD1-1313D742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D5B1-506F-43DC-BA5B-0BEEDACA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1955E-C7C7-4D59-8394-C9E5A19C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FDF37-3DAC-4D18-8623-0918ED19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DC653-93D6-4F94-9970-1C05BA6C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63C21-4274-41ED-AB8F-7A42D57C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D9EC-0FFB-4C64-B2A6-FBF8341E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EFF43-72A2-4DD2-8989-0284AE31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BFF-EC4B-4F06-B644-8DA91D4E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A1B29-489D-44D1-9574-0BEC75C1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80A4E-B07A-414F-9EC4-8B649FA6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0E725-6D2B-4BA5-9FB7-1E8B6A91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1F2F7-E1F5-4A7C-9156-242DEAED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A0246-8C4F-44C9-BFF9-7A7115FF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5B48B-C22F-4C8E-B3D1-149E6440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9F26B-3E67-485E-BD58-374C4597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D8F8C-EC61-4EDC-A478-500591A1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F9EED-9FD7-41EA-A765-4FDBBA82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3CFD7-C55C-42B5-962B-DD513670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69F-346D-4EF6-A9E9-5DC26E31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C7F58-9E64-4C99-9936-B89010DA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91D-1A3C-44D7-A4BB-2F616A8A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FBB-A1F8-4E3F-9B69-49221B0E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FF8-9F35-480A-984A-ACA58F50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C605-6C92-477C-ABF1-F9839E60AB59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CA8B-B911-48E8-AA81-AE9B5DB824B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9E28-39D3-49B1-93EF-6B6447CBAF7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5C90-9AE0-44E3-A38C-688738DFDA6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472F-41A4-4E9D-90FD-C5148CFFC0B1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A177-48CE-4310-B77F-B05329CDBD2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BED8-3707-42AE-B7B8-1C986D833DC9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073D-6325-4299-B967-FAAFCB86608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BA71-A651-4143-88B7-6DE55CDA8D44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0DE5-E6A8-40EA-89CA-0087D3A696A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1E36-78C5-4DA5-AF71-C5A86E0B721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28600"/>
            <a:ext cx="845820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Introduction  To Bi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some statistical terms an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Definition of Statistics and Bi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Arial"/>
              </a:rPr>
              <a:t>Stat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ience or a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 collecting, organizing, analyzing and drawing conclusion of numerical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it is the prerequisit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Knowledge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for Biome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wo types of statistic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e3611"/>
                </a:solidFill>
                <a:latin typeface="Arial"/>
              </a:rPr>
              <a:t>Descriptive statistics:-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is the statistics that is used in measuring, collecting, organizing, summarizing and description of mas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25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a statistical method which is concerned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bing a set of data but which do not involve genera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drawing conclusions.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2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25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These are measures of central tendency such as mean, median, mod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B009-45D3-446C-A507-EDD0CE0AF0F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09480" y="460800"/>
            <a:ext cx="7696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cc"/>
              </a:buClr>
              <a:buFont typeface="Wingdings" charset="2"/>
              <a:buChar char="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Methods used in probability samp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1. Simple random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rcRect l="0" t="25313" r="0" b="3445"/>
          <a:stretch/>
        </p:blipFill>
        <p:spPr>
          <a:xfrm>
            <a:off x="838080" y="1447920"/>
            <a:ext cx="7696440" cy="293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838080" y="4495680"/>
          <a:ext cx="7925040" cy="1737000"/>
        </p:xfrm>
        <a:graphic>
          <a:graphicData uri="http://schemas.openxmlformats.org/drawingml/2006/table">
            <a:tbl>
              <a:tblPr/>
              <a:tblGrid>
                <a:gridCol w="2981520"/>
                <a:gridCol w="49435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Arial"/>
                          <a:ea typeface="Times New Roman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y to underst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y to analy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Disadvantag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s a list of the 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 is very difficult to achieve (i.e. time, effort and money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 miss or under sample key sub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3277-C33E-4666-9A87-6116D60FAA8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rcRect l="0" t="22443" r="7812" b="1941"/>
          <a:stretch/>
        </p:blipFill>
        <p:spPr>
          <a:xfrm>
            <a:off x="685800" y="1066680"/>
            <a:ext cx="7620120" cy="29718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3"/>
          <p:cNvSpPr/>
          <p:nvPr/>
        </p:nvSpPr>
        <p:spPr>
          <a:xfrm>
            <a:off x="609480" y="457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2. Systematic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685800" y="4050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lement of randomness is usually introduced into this kind of sampling by using random numbers to pick up the unit with which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sy to select the s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ght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re representa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n S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“most” conditions it can be analyzed as S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eful when elements can’t be listed prior to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Disadvant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s care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ycles or periodic tre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sampling fr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FB3B-E966-4E8E-BA8E-56BF6252CA6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533520" y="394200"/>
            <a:ext cx="80769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3. Stratified Samp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ition the popula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o groups (strata), e.g., age, wealth status, sex, religion, education status, agro-ecolog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tain a simple random sample 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group (stra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lect data on each sampling unit that was randomly sampled from each group (stratum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This is useful when the study populations are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heterogeneous,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if comparisons will be made of the results in subgroups of the study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rcRect l="4398" t="9686" r="2329" b="0"/>
          <a:stretch/>
        </p:blipFill>
        <p:spPr>
          <a:xfrm>
            <a:off x="1219320" y="3657600"/>
            <a:ext cx="647676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8877-B60E-4065-BCC2-4742A333DAC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457200" y="842760"/>
            <a:ext cx="830592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Principles of sampling from a stratified pop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alloca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tion from each subgroup are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proximately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Proportionate alloc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self-weigh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d when the subgroups vary dramatically in size of study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vantag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 improv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iability and precis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eliminates variability across str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advantag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ght need sampling w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2B42-5C74-4C35-A76B-FCDDA2EB320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914400" y="305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4. Cluster/Area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rcRect l="0" t="12504" r="3407" b="0"/>
          <a:stretch/>
        </p:blipFill>
        <p:spPr>
          <a:xfrm>
            <a:off x="1066680" y="685800"/>
            <a:ext cx="7010640" cy="26668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914400" y="3289680"/>
            <a:ext cx="7696080" cy="26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ly more economical than other metho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logistically sim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Disadvan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ts within clusters may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vari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n the population, th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uster sampl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precise than a simple ran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e of the same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452D-7A38-44D1-A45D-48D421FEF9D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609480" y="313200"/>
            <a:ext cx="807732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4520" indent="-344520" algn="just"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5. Multi-stage sampl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rther development of the idea of cluster sampl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chnique is meant for big inquiries extending to a considerably large geographical area like an entire count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b05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If the technique of random-sampling is applied at all stages, the sampling procedure is described as multi-stage random samp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533520" y="2153880"/>
            <a:ext cx="81532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multi-stage sampling the first stage may be to select large primary sampling units such as states, then districts, then towns and finally certain families within towns (or Region ---zones -----districts-----kebeles----household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Exam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t’s say you wanted to find o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subject is preferred by Amhara region school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population lis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 of all Amhara region schoolchildr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would be near-impossible to come by, so you canno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 a sample of the po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vide the population into z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imple random samp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the next stage, take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ndom sample of schoo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with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ose z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ally you could perfor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 random sampling on the stud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get the final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5136-B175-4EB6-929C-8B8111FB583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380880" y="304920"/>
            <a:ext cx="8229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1.4. Definition of </a:t>
            </a:r>
            <a:r>
              <a:rPr b="1" lang="en-US" sz="2200" spc="-1" strike="noStrike">
                <a:solidFill>
                  <a:srgbClr val="9e3611"/>
                </a:solidFill>
                <a:latin typeface="Arial"/>
              </a:rPr>
              <a:t>Variables an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e36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Variab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are a set of observations on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ular character.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are characteristics of popu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investigation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show variability (that are continuously changing among individual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It is an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factor or character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Calibri"/>
              </a:rPr>
              <a:t>whose 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can change from individual to individual or from time to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Example of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ody weight, feed intake, daily milk yield, sex, eye color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EEE0-D86C-4E7E-9B2E-D304EBADA20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57200" y="181440"/>
            <a:ext cx="8229600" cy="64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Types of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b2d1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Arial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assifi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ative (numer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ative (categoric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ative variables: variables having values expressed as numbers and the d/f b/n values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have numerical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b2d1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b2d1f"/>
                </a:solidFill>
                <a:latin typeface="Arial"/>
              </a:rPr>
              <a:t>A quantitative variable can be </a:t>
            </a:r>
            <a:r>
              <a:rPr b="1" lang="en-US" sz="2200" spc="-1" strike="noStrike" u="sng">
                <a:solidFill>
                  <a:srgbClr val="0070c0"/>
                </a:solidFill>
                <a:uFillTx/>
                <a:latin typeface="Arial"/>
              </a:rPr>
              <a:t>continuous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 or </a:t>
            </a:r>
            <a:r>
              <a:rPr b="1" lang="en-US" sz="2200" spc="-1" strike="noStrike" u="sng">
                <a:solidFill>
                  <a:srgbClr val="0070c0"/>
                </a:solidFill>
                <a:uFillTx/>
                <a:latin typeface="Arial"/>
              </a:rPr>
              <a:t>discrete</a:t>
            </a:r>
            <a:r>
              <a:rPr b="1" lang="en-US" sz="2200" spc="-1" strike="noStrike">
                <a:solidFill>
                  <a:srgbClr val="9b2d1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e36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Continuous variables:</a:t>
            </a:r>
            <a:r>
              <a:rPr b="0" lang="en-US" sz="2000" spc="-1" strike="noStrike">
                <a:solidFill>
                  <a:srgbClr val="9e36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d using some kind of measuring scale, that 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having continuous no. over a given interv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Length, weight, volume, area, density, tim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b. Discrete variable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s having countabl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number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termined by coun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Family size, litter size, microbial count, egg production, tiller count,  no. of students in a clas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4AF3-464F-4160-8126-F6F82923A1E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457200" y="228600"/>
            <a:ext cx="82296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2. Qualitative (categorical) variabl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 having values express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ategor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can’t be measured in quantitative f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ather described by the 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qualities they possess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9b2d1f"/>
                </a:solidFill>
                <a:latin typeface="Arial"/>
              </a:rPr>
              <a:t>A qualitative variable can be 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an ordinal or nom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9b2d1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Ordinal variabl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riables having categories that can be rank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are express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i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ative differ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tatus of students (excellent, very good, good); weight level of objects (small, medium, large); age level (baby, young, old, very old)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b. Nominal variabl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 variabl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ving categories that cannot be rank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.e., no category is more valuable than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ex, color, occupation, religion, identification numb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assign numbers </a:t>
            </a: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(scores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rdinal categories; however, the differences among </a:t>
            </a: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those numb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numerical mea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rule </a:t>
            </a: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those scores depict catego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not a numerical s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qualitative variables are coded when data is entered in to a computer for the purpose of data analy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63F3-8594-4527-A86A-F9346A99357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228600" y="393480"/>
            <a:ext cx="8686800" cy="65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What are dat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36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are  raw materials for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statistics means numerical results of any scientific measurement,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counts or observations.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conve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umerical inform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the study variables in a given sam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data set is </a:t>
            </a:r>
            <a:r>
              <a:rPr b="1" i="1" lang="en-US" sz="2000" spc="-1" strike="noStrike">
                <a:solidFill>
                  <a:srgbClr val="9e3611"/>
                </a:solidFill>
                <a:latin typeface="Arial"/>
              </a:rPr>
              <a:t>data value or dat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an be obtained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tinely kep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like dairy farm record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ring Litera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rveys (using observations, Questionnai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n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e.g. counting diseased animals in a group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ri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e.g. effect of feed intake on body weight g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 kg of calf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 liters/day of milk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le or female sex of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ue or green eye color, etc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Wingdings" charset="2"/>
              <a:buChar char="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Without data, statistical methods do not have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CF62-CDF8-480E-9811-DD9C11DA5CE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504720" y="380880"/>
            <a:ext cx="830592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e3611"/>
                </a:solidFill>
                <a:latin typeface="Arial"/>
              </a:rPr>
              <a:t>2. Differential statistics / Inferential statistic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-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a statistical methods used for drawing conclusions about a population based on the information obtained from sample drawn from the popul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Arial"/>
              </a:rPr>
              <a:t>It performs </a:t>
            </a:r>
            <a:r>
              <a:rPr b="1" lang="en-IN" sz="2200" spc="-1" strike="noStrike">
                <a:solidFill>
                  <a:srgbClr val="000000"/>
                </a:solidFill>
                <a:latin typeface="Arial"/>
              </a:rPr>
              <a:t>prediction, hypothesis testing, and making of generalization </a:t>
            </a:r>
            <a:r>
              <a:rPr b="0" lang="en-IN" sz="2200" spc="-1" strike="noStrike">
                <a:solidFill>
                  <a:srgbClr val="000000"/>
                </a:solidFill>
                <a:latin typeface="Arial"/>
              </a:rPr>
              <a:t>from sample to population, i.e. a conclusion reached on the basis of evidence and reas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Arial"/>
              </a:rPr>
              <a:t>Examples of inferential statistics: </a:t>
            </a: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measures of       dispersion like variances and standar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BC87-C64E-4C99-A379-0F2BF1C89C2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457200" y="228600"/>
            <a:ext cx="830592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Types of data based on their arran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 Raw dat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dat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itten down as collect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the fie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site of experimental trial, i.e. data that have not been summarized and organized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Ordered dat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  arranged in ascending or descending order or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a organized and ready for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Types of data based on their sour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Data: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ed by the investigator her/himsel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specific inquiry or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ary data:-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used by an investigator/researcher which has already been collected b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people or orga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SA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we get primary dat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rect personal observ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research area by the researcher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s obtained from such data are very much rel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ndirect investig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- Here the researcher prepar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nai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end to the researchable area to be collected by enumerators and then get back the information to the researc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B7BF-5FC5-427A-B306-DE077D1AA48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533520" y="228600"/>
            <a:ext cx="815328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Presentation of Summariz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ummarized data can be presented both in numerically and graphic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Numerical present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measure of central tendency (location indicators): e.g. mean median,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frequency distributions (like frequencies and percentages) mainly for qualitativ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measures of dispersions (e.g. range, variance, standard deviations, CV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2. Graphical presentation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s like bar graph, line graph, pie charts, etc are some of the graphical devices for presentation of statistical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A5CB-4884-4906-97E8-AD8C120F4DD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"/>
          <p:cNvSpPr/>
          <p:nvPr/>
        </p:nvSpPr>
        <p:spPr>
          <a:xfrm>
            <a:off x="457200" y="454320"/>
            <a:ext cx="830592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1.5. Measures of central tendency (location indica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entral tende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culated from the raw data used to describe or represent a given data s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values show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lust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values around th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ly used measures of central tendency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rithmetic me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a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three measures of central tende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nd to lie at the center of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a property that gave the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measures of central tende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ue to be considered as representative of a given dat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o lie somewhere at the center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the nature of the whole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CBE3-469A-472F-AD89-CE3FA812D69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5905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"/>
          <p:cNvSpPr/>
          <p:nvPr/>
        </p:nvSpPr>
        <p:spPr>
          <a:xfrm>
            <a:off x="1295280" y="4038840"/>
            <a:ext cx="65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Figure. Interpretation of mean, median and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B763-D372-4992-81DA-A07095E02AA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457200" y="31680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ithmetic mea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st widely us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represent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as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 central tendency and usually referr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n or a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Bu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ed by outlier 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annot be calculated wh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data is mi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s the actual value of data in to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sum of all values of the data divided by the number of data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aw data it is calculated 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2819520" y="0"/>
            <a:ext cx="30456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380880" y="3100320"/>
            <a:ext cx="1600200" cy="8733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0"/>
          <p:cNvSpPr/>
          <p:nvPr/>
        </p:nvSpPr>
        <p:spPr>
          <a:xfrm>
            <a:off x="4467240" y="10188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2061360" y="2971800"/>
            <a:ext cx="114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1" descr=""/>
          <p:cNvPicPr/>
          <p:nvPr/>
        </p:nvPicPr>
        <p:blipFill>
          <a:blip r:embed="rId3"/>
          <a:stretch/>
        </p:blipFill>
        <p:spPr>
          <a:xfrm>
            <a:off x="3276720" y="3124080"/>
            <a:ext cx="2020680" cy="3668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0"/>
          <p:cNvSpPr/>
          <p:nvPr/>
        </p:nvSpPr>
        <p:spPr>
          <a:xfrm>
            <a:off x="2057400" y="350712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i = the sum of the values starting from i = 1 up to i = n; 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457200" y="4115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ata collected from the population, the mean value (μ) is computed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4"/>
          <a:stretch/>
        </p:blipFill>
        <p:spPr>
          <a:xfrm>
            <a:off x="914400" y="4572000"/>
            <a:ext cx="914400" cy="5144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3"/>
          <p:cNvSpPr/>
          <p:nvPr/>
        </p:nvSpPr>
        <p:spPr>
          <a:xfrm>
            <a:off x="2514600" y="464904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N = the populatio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457200" y="50313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 grouped data, each values of xi should be weighed by its respective frequency and the above formula is modified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5" descr=""/>
          <p:cNvPicPr/>
          <p:nvPr/>
        </p:nvPicPr>
        <p:blipFill>
          <a:blip r:embed="rId5"/>
          <a:stretch/>
        </p:blipFill>
        <p:spPr>
          <a:xfrm>
            <a:off x="762120" y="5715000"/>
            <a:ext cx="2895480" cy="762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6" descr=""/>
          <p:cNvPicPr/>
          <p:nvPr/>
        </p:nvPicPr>
        <p:blipFill>
          <a:blip r:embed="rId6"/>
          <a:stretch/>
        </p:blipFill>
        <p:spPr>
          <a:xfrm>
            <a:off x="4267080" y="5638680"/>
            <a:ext cx="3962520" cy="914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31A1-AB3A-436D-9AD7-66276E77CA8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"/>
          <p:cNvSpPr/>
          <p:nvPr/>
        </p:nvSpPr>
        <p:spPr>
          <a:xfrm>
            <a:off x="457200" y="1558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Compute the arithmetic mean for ungrouped and grouped data shown by Tables 2.1 and 2.2, respectivel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762120" y="1295280"/>
          <a:ext cx="6933960" cy="4907160"/>
        </p:xfrm>
        <a:graphic>
          <a:graphicData uri="http://schemas.openxmlformats.org/drawingml/2006/table">
            <a:tbl>
              <a:tblPr/>
              <a:tblGrid>
                <a:gridCol w="2627280"/>
                <a:gridCol w="4306680"/>
              </a:tblGrid>
              <a:tr h="701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95360" indent="-495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2.1.  Percent Butterfat content of milk of 11 randomly selected cows from DMU dairy 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 of c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butterfat of mil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E928-E877-4F8F-A465-8F2AB132BAE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371600" y="762120"/>
          <a:ext cx="6248520" cy="3182760"/>
        </p:xfrm>
        <a:graphic>
          <a:graphicData uri="http://schemas.openxmlformats.org/drawingml/2006/table">
            <a:tbl>
              <a:tblPr/>
              <a:tblGrid>
                <a:gridCol w="2846520"/>
                <a:gridCol w="3402000"/>
              </a:tblGrid>
              <a:tr h="701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2.2. Frequency distribution of dogs that had different litter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ter siz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EA0B-D8F4-40BA-9028-A711C035628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"/>
          <p:cNvSpPr/>
          <p:nvPr/>
        </p:nvSpPr>
        <p:spPr>
          <a:xfrm>
            <a:off x="533520" y="329400"/>
            <a:ext cx="80769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fin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iddle value in an ordered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.e., it is a value that divides the data into two hal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raw 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n value can be determined first by arranging the data into ascending (or descending) or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n value is compute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M = (n+1)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f the data set is od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M =[ (n/2)+ (n/2)+1]/2  if the data set is even, where M= median and n=the number of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if the sample data contains 10 observations, (n/2) = X5( fifth observation) and (n/2)+1 = X5+1 = X6 (sixth observation).  Therefore, the median value would be half way between the fifth and sixth observation. i.e., (X5+X6)/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C53E-2D4B-4006-AF5B-CB0609190F1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533520" y="762120"/>
            <a:ext cx="807696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d 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dd number of observations  like = 4, 1, 2, 5, 9;  Median = the value of the middle observation = 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ven number of observation like = 4, 1, 2,2,5,9;  Median = the average value of the middle two observ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2+4)/2 = 3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: To find the middle observations both in odd and/or even number of observations, the raw data must be arranged in either ascending or descending 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914400" y="4952880"/>
            <a:ext cx="7010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b05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b050"/>
                </a:solidFill>
                <a:uFillTx/>
                <a:latin typeface="Arial"/>
              </a:rPr>
              <a:t>Exercise:  </a:t>
            </a: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using data of tables 2.1 and 2.2 determine the median valu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7A2C-70EA-44AC-916E-C584DD9BE0E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"/>
          <p:cNvSpPr/>
          <p:nvPr/>
        </p:nvSpPr>
        <p:spPr>
          <a:xfrm>
            <a:off x="304920" y="-176760"/>
            <a:ext cx="8534160" cy="66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Th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e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st frequently observed value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n mixtures of populations are sampled, the data can have more than one modal value. i.e., multimodal distribu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given set of data may b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modal, bimodal, or multimodal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hav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e m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4, 1, 2, 2, 5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mod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hav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wo mod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4, 4, 1, 2, 2, 5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mod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having greater than or equal to three mo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4, 4, 1, 1, 2, 2, 5, 5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b050"/>
                </a:solidFill>
                <a:uFillTx/>
                <a:latin typeface="Arial"/>
              </a:rPr>
              <a:t>Exercise: 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using data of tables 2.1 and 2.2 determine the mode valu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e3611"/>
                </a:solidFill>
                <a:latin typeface="Arial"/>
                <a:ea typeface="Times New Roman"/>
              </a:rPr>
              <a:t>Summary on the usage of measures of central t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used for both </a:t>
            </a:r>
            <a:r>
              <a:rPr b="1" lang="en-US" sz="2000" spc="-1" strike="noStrike">
                <a:solidFill>
                  <a:srgbClr val="548dd4"/>
                </a:solidFill>
                <a:latin typeface="Arial"/>
                <a:ea typeface="Times New Roman"/>
              </a:rPr>
              <a:t>quantitative and qualit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Medi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used for </a:t>
            </a:r>
            <a:r>
              <a:rPr b="1" lang="en-US" sz="2000" spc="-1" strike="noStrike">
                <a:solidFill>
                  <a:srgbClr val="548dd4"/>
                </a:solidFill>
                <a:latin typeface="Arial"/>
                <a:ea typeface="Times New Roman"/>
              </a:rPr>
              <a:t>quantit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both continuous and discrete) as well as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di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cale variab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or describing data, the variable has to be </a:t>
            </a:r>
            <a:r>
              <a:rPr b="0" lang="en-US" sz="2000" spc="-1" strike="noStrike">
                <a:solidFill>
                  <a:srgbClr val="548dd4"/>
                </a:solidFill>
                <a:latin typeface="Arial"/>
                <a:ea typeface="Times New Roman"/>
              </a:rPr>
              <a:t>quantit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1386-CBD4-4556-935B-E3B14459AB6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838080" y="609480"/>
            <a:ext cx="777240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9e3611"/>
                </a:solidFill>
                <a:latin typeface="Arial"/>
              </a:rPr>
              <a:t>Biometry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is the application of statistics used to solve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biologic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More scientifically, it is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the application of statistical metho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nalyz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logical 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fields of </a:t>
            </a:r>
            <a:r>
              <a:rPr b="1" i="1" lang="en-US" sz="2000" spc="-1" strike="noStrike">
                <a:solidFill>
                  <a:srgbClr val="9b2d1f"/>
                </a:solidFill>
                <a:latin typeface="Arial"/>
              </a:rPr>
              <a:t>biological sciences and medicine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in order to solve biological proble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Biometry can also be called biometrics or biostatistics or biomathema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4520" indent="-34452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2000" spc="-1" strike="noStrike">
                <a:solidFill>
                  <a:srgbClr val="00b050"/>
                </a:solidFill>
                <a:latin typeface="Arial"/>
                <a:ea typeface="Arial"/>
              </a:rPr>
              <a:t>Hence</a:t>
            </a:r>
            <a:r>
              <a:rPr b="1" i="1" lang="en-IN" sz="18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knowledge of statistics is required to apply statistical methods in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0519-8B17-4E6D-81A8-E3D1F41E6DF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380880" y="166680"/>
            <a:ext cx="82296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preferred measure of central tend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ever it can be used amongst the three. This is beca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uses all the values in its computational proced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hereas, the other two are rather location parame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n may ignore useful dat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t is only influenced by one or two observations as the case may 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all thi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e should be exerci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using mean value for data representation as it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affected of the three wh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data are considerably ske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2AFD-BB2B-4565-8302-B657B21F238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442800" y="30600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6. Measures of 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457200" y="685800"/>
            <a:ext cx="845820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asure of dispers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expression of variabilit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data 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</a:t>
            </a:r>
            <a:r>
              <a:rPr b="1" lang="en-US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how spread are values  from the center</a:t>
            </a:r>
            <a:r>
              <a:rPr b="0" lang="en-US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i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site of how clust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values around the cen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ly used measures of dispersions incl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ng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nces (sample and population varia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devi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ample and population Standard devi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Error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efficient of variation (C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asure of dispers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o be reported with average 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values (me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one do not adequately describe a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consider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score on biostatistics of two cla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students, 2006 and 2007 class displayed by Table 3.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an score for the 2006 and 2007 class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.0% and 75.4%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ective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repor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ean value alone mislea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two class student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in perform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E08F-4EC2-4283-8D97-2B124191B51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33520" y="1752480"/>
          <a:ext cx="8001000" cy="4556160"/>
        </p:xfrm>
        <a:graphic>
          <a:graphicData uri="http://schemas.openxmlformats.org/drawingml/2006/table">
            <a:tbl>
              <a:tblPr/>
              <a:tblGrid>
                <a:gridCol w="3105000"/>
                <a:gridCol w="2448000"/>
                <a:gridCol w="2448000"/>
              </a:tblGrid>
              <a:tr h="7016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able 3.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iostatistics final score of 2006 and 2007 class students (x/1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of 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re (X/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lass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(∑ 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-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-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(s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deviation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Rectangle 1"/>
          <p:cNvSpPr/>
          <p:nvPr/>
        </p:nvSpPr>
        <p:spPr>
          <a:xfrm>
            <a:off x="457200" y="15840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other h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f some measure of dispers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Range is reported togeth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mean value, 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reader would understand that the two class students are widely different in performance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</a:t>
            </a:r>
            <a:r>
              <a:rPr b="0" lang="en-US" sz="1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2006 class students are highly vari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perform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</a:t>
            </a:r>
            <a:r>
              <a:rPr b="1" lang="en-US" sz="1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the 2007 class students are relatively close to each oth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reader cannot get this idea by inspecting the mean value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95A6-B5EB-49D9-831E-49FD3BD3A20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380880" y="482760"/>
            <a:ext cx="83059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</a:t>
            </a:r>
            <a:r>
              <a:rPr b="0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d/c b/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highest and lowest value in a data s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expressed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as dif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such as the range of the 2006 class score is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within 40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 it can also be expressed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as interv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ch as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the said range is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between 55 and 95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is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understand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graspable measure of dispersio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t is a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crude measure of disper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 can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easily overestimate the true disper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data contains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utlier values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stance consider the scores of two classes of students (class A and B) displayed by Table 3.1. The mean score of class A is 75% and that of class B is 75.4%. The range of the scores is between 55-95% and 65-85%, respectively. Looking at this report, a reader would understand that class A student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y varied in their sc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range in this situ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emphas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rue dispersion of the values in the presence of outlier values as it only takes into consider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values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0645-E8E7-40BA-8815-CBDCD3FB3B1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304920" y="377280"/>
            <a:ext cx="8381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nce and standar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xpressed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as the dispersion of the dat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t from the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me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b2d1f"/>
              </a:buClr>
              <a:buFont typeface="Arial"/>
              <a:buAutoNum type="arabicPeriod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Variance: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ressed 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ng the sum of the squared deviations by the total number of data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wo types of vari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opulation variance:  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σ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 = ∑ (xi –μ)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/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mple variance:  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S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 = ∑ (xi –    )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/ n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riance is also termed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 square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ince it is the mean of the total squared deviation of each value from the mean. i.e.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variance = Mean square =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otal sum of squared deviation/degrees of freed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511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bbreviated, the expression can be written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511200" algn="ctr">
              <a:lnSpc>
                <a:spcPct val="100000"/>
              </a:lnSpc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S</a:t>
            </a:r>
            <a:r>
              <a:rPr b="1" lang="en-US" sz="1800" spc="-1" strike="noStrike" u="sng" baseline="30000">
                <a:solidFill>
                  <a:srgbClr val="0000cc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 = MS = TSS/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5486400" y="3124080"/>
                <a:ext cx="304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A963-3BB4-4EA7-BB11-29B6CDAE24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"/>
          <p:cNvSpPr/>
          <p:nvPr/>
        </p:nvSpPr>
        <p:spPr>
          <a:xfrm>
            <a:off x="457200" y="272160"/>
            <a:ext cx="8305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ample variance S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estimator of the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opulation variance σ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min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sample variance is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-1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red a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s of freed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n(sample size) because if the denominator is sample size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underestimates the true dispersion σ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ce expresses the dispersion in the data values in squared unit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using data of the 2006 class score shown by table 3.3 below, the sample variance is comput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∑ (xi –    )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 n-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500/7 = 214.29 %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ndicates th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score of a student on average deviated from the average sc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lass by 214.29%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.e.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deviation from the center is express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ercent squ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ince variance expresses deviation in squared uni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easily understandable by common 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refore,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square root of vari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to expres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iation in linear un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is gives a quantity call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 deviation (S).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hat is why estimating Standard deviation from the variance value is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209680" y="2895480"/>
                <a:ext cx="304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FE18-0340-467D-9660-F19CBF1A5B5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228600" y="380880"/>
            <a:ext cx="8458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standard deviation (S)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described as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ositive square root of vari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t is used to ex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ation in linear units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standard deviation (S) = √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√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∑ (xi –    )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/ n-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6324480" y="1295280"/>
                <a:ext cx="304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8" name="Rectangle 7"/>
          <p:cNvSpPr/>
          <p:nvPr/>
        </p:nvSpPr>
        <p:spPr>
          <a:xfrm>
            <a:off x="457200" y="1752480"/>
            <a:ext cx="83818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he 2006 class students scor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S = √214.29 = 14.64%.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.e., in the 2006 class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core of a given student deviated from the class average by 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14.64%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much easier to understand since it is expressed in similar units as the values in the data s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Summariz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Varianc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the most preferred measure of dispersion that satisfi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wo important qualitie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tak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values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its comput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 it is not biased as rang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ability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well underst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 this makes it  important in higher stati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5D93-4083-4A4B-8432-A83ACC5F0A0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371600" y="674640"/>
          <a:ext cx="6705720" cy="4624560"/>
        </p:xfrm>
        <a:graphic>
          <a:graphicData uri="http://schemas.openxmlformats.org/drawingml/2006/table">
            <a:tbl>
              <a:tblPr/>
              <a:tblGrid>
                <a:gridCol w="2381400"/>
                <a:gridCol w="2016000"/>
                <a:gridCol w="2308320"/>
              </a:tblGrid>
              <a:tr h="3052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class Score (X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– 75 =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– 75 =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– 75 =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– 75 =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– 75 = 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 2 =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– 75 = 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– 75 = 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– 75 = 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Xi –     ) 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             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n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/7 = 214.29 %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4267080" y="1143000"/>
                <a:ext cx="838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6400800" y="1066680"/>
                <a:ext cx="8049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12"/>
              <p:cNvSpPr txBox="1"/>
              <p:nvPr/>
            </p:nvSpPr>
            <p:spPr>
              <a:xfrm>
                <a:off x="4800600" y="4267080"/>
                <a:ext cx="2570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6172200" y="4267080"/>
                <a:ext cx="8049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5"/>
              <p:cNvSpPr txBox="1"/>
              <p:nvPr/>
            </p:nvSpPr>
            <p:spPr>
              <a:xfrm>
                <a:off x="4191120" y="4648320"/>
                <a:ext cx="8046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Rectangle 16"/>
          <p:cNvSpPr/>
          <p:nvPr/>
        </p:nvSpPr>
        <p:spPr>
          <a:xfrm>
            <a:off x="533520" y="38124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3.2. The 2006 class score  Biostatisticsa data used for illustration of variance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E0A9-C192-414B-8B1D-AFB2A1BB595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533520" y="457200"/>
            <a:ext cx="82296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Standard error of mean (S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fend as the standard deviation of the mean divided by the square root of the sample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Standard error of mean (SEM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ze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tandard error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SEM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helpful to judge how muc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viant is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ple mean from the unknown population m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which the sample is dra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ypothesis testing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o how mu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error level can be toler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deciding that the sample estimate is bi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calculating CV (coefficient of variation) value can be used as a guide to deci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ample estimate is biased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"/>
              <p:cNvSpPr txBox="1"/>
              <p:nvPr/>
            </p:nvSpPr>
            <p:spPr>
              <a:xfrm>
                <a:off x="2362320" y="2362320"/>
                <a:ext cx="13716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6553080" y="1828800"/>
                <a:ext cx="371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E08E-F85C-4BB1-A0C4-B897B4E47DA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228600" y="466920"/>
            <a:ext cx="8229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efficient of variation (C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t describes variability in the data set as a proportion to the mean, i.e.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ative measure of vari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efficient of variation is expressed as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V  =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1"/>
              <p:cNvSpPr txBox="1"/>
              <p:nvPr/>
            </p:nvSpPr>
            <p:spPr>
              <a:xfrm>
                <a:off x="6400800" y="2133720"/>
                <a:ext cx="9144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Rectangle 3"/>
          <p:cNvSpPr/>
          <p:nvPr/>
        </p:nvSpPr>
        <p:spPr>
          <a:xfrm>
            <a:off x="380880" y="2909880"/>
            <a:ext cx="8382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us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 compare the relative dispersion (vari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data sets measured in different units as well as magnitu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stan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variable or homogeneous is the distribution of weights of same age group individua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given commun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 rule of thumb (standard agreement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can be used as a guide for such kind of decision based on C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7FC6-6A22-42BF-BB08-87ECA0E3AFB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533520" y="304920"/>
            <a:ext cx="8229600" cy="68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</a:rPr>
              <a:t>Application of statistics in resear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cs or biometrics can be applied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design data collection methodolo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type of research both in Survey type (exploratory) and experimental resea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Questionnaires, interview, group discussion, experiment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mmarize and describe data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Tables,  figur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r graphs, line graphs, scatter plots, pie charts etc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tatistical quantities li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measures of central tendencie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measures of dispersions, such as Range and Vari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standard deviation, standard er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infer population parameter from sample statistics, i.e.,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make generalization about population characteri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make comparison among populations, such as Hypothesis testing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pothesis testing involves comparing populations in order to make clear cut dec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96B6-1FE3-4A4C-BBC1-FA2903C82E2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533520" y="45720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V≤ 10%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ple estimate is considered 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good approxi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arametric valu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usually achieved in experimental re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V is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etween 10 and 20%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lso considered as a good approximation of the parametric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in fact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y good preci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level for samples obtained fro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rvey type re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But, for data generated from experimental research, this should be taken a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pper tolerable li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eviation for a sample stati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If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V is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etween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0 and 30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%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y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lerated for exploratory re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for designed experiments, it is indicative of too muc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rror or an un-standardized methodolo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ed, and thus one has to consider revising the methodology of data colle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art fro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sing the methodology (randomization) of data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bviousl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ing the sample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also a good approach to improve precision of est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9CF7-4629-4935-A22E-238D4ECF926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"/>
          <p:cNvSpPr/>
          <p:nvPr/>
        </p:nvSpPr>
        <p:spPr>
          <a:xfrm>
            <a:off x="533520" y="259560"/>
            <a:ext cx="8305560" cy="61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1.2. </a:t>
            </a:r>
            <a:r>
              <a:rPr b="1" lang="en-US" sz="2000" spc="-1" strike="noStrike">
                <a:solidFill>
                  <a:srgbClr val="9e3611"/>
                </a:solidFill>
                <a:latin typeface="Arial"/>
                <a:ea typeface="Times New Roman"/>
              </a:rPr>
              <a:t>Definition of </a:t>
            </a:r>
            <a:r>
              <a:rPr b="1" lang="en-US" sz="2000" spc="-1" strike="noStrike">
                <a:solidFill>
                  <a:srgbClr val="9e3611"/>
                </a:solidFill>
                <a:latin typeface="Arial"/>
                <a:ea typeface="Arial"/>
              </a:rPr>
              <a:t>Population, sample and related termi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popu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collection of all possible individuals, objects or measurement of interest, or  i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he entire subject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research interest.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t differs from time to time, which either increase or decrease through tim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ypes of pop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different ways of classifying populations bas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ze of populations as finite and infi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nite populations are those that can be cou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finite populations are those that are too large to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ture of members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ing or non l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al or imaginar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al population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xist in time and spa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, while as imaginary populations are thos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xperimentally creat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74B4-91E1-4D6A-A5DD-5E91A190D9F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380880" y="457200"/>
            <a:ext cx="8305920" cy="51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Times New Roman"/>
              </a:rPr>
              <a:t>Sub sets of 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Arial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Target Population/theoretical population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fers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TIRE group of individuals or obj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which researchers are interested in generalizing the conclu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Arial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Accessible Population/study population/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ref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pulation in resear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which the researchers c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ly their conclu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population is a subse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po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the accessible population researchers draw thei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Sampling fram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 of un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population from which the sample is drawn.  e.g., list of livestock produc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Sampl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bset of the popu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ed to stu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Sampling uni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population that are selected –   like Individual people, health facilities, district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5EC2-7418-4ABB-8744-FB8A1F793AF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6953400" cy="43434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"/>
          <p:cNvSpPr/>
          <p:nvPr/>
        </p:nvSpPr>
        <p:spPr>
          <a:xfrm>
            <a:off x="1066680" y="5105880"/>
            <a:ext cx="64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Adolescents = youth = young people = teenagers  = youngsters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3911-D907-4B16-9DCF-B1B0293330E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533520" y="393120"/>
            <a:ext cx="807696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1.3. Sampl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and Types of samp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What is Samp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c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which we stud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mall part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population (sample) to make judgments about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tire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ing involv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 a number of un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a defined 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Why Do We Sa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he population of interest is larg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ing can be more effici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know or to estim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aracteristics of a pop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n reaching the entire 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money/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 actually provi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re accurate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A41B-A3CB-4658-84B5-72B3F957373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304920" y="-13680"/>
            <a:ext cx="861048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Types of samp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1.</a:t>
            </a: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 N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on-probability sampling or purposive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ampling method in whi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probability is assigned for each elementary u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rather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judgment is used to select the sam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ces of selecting a subje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kn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very element of the population has the opportunity for sel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sampling frame is 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likely to produc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Arial"/>
              </a:rPr>
              <a:t>a biased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tricts gener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enience, Judgmen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nowball, Quo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ampling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2.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Probability sampling: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Probability sampling is also known as ‘random sampling’ or ‘chance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eryo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population h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opportunity/chance for se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ery element (member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ach un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population has a known probability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ing selected for th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ncreases sample's representativen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technique is used when it is desirab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generalize or infer to a larger popu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0:14:22Z</dcterms:created>
  <dc:creator>USER</dc:creator>
  <dc:description/>
  <dc:language>en-US</dc:language>
  <cp:lastModifiedBy>user</cp:lastModifiedBy>
  <dcterms:modified xsi:type="dcterms:W3CDTF">2020-03-05T08:48:09Z</dcterms:modified>
  <cp:revision>530</cp:revision>
  <dc:subject/>
  <dc:title>Topics to be covered</dc:title>
</cp:coreProperties>
</file>